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2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25.png" ContentType="image/png"/>
  <Override PartName="/ppt/media/image1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933-DAD0-4B3E-82D0-4200E583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0C1-08BE-46E8-B239-E616EB74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B88-647E-45E5-A1F7-3690A09A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846-6F6C-4327-8874-A7DA3367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D70-09D8-494E-879C-13892F6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7B2-A5C2-4665-A003-EC57BFB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E48-F1F8-40D3-AE2B-2E4F5CB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76-D2D8-4A01-9E93-BA02382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958-0920-4610-B0AF-49C717C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F2E-0A29-4A94-9C7E-8E67088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276-3A78-4365-91A1-E78FD18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7C5-B514-4888-B65E-CB4E8C6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DC6C-4F73-4CFB-BEEC-BC59DF97E04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18D-7E90-43E0-B8EC-8F34CC85BA9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468360" y="117360"/>
            <a:ext cx="26542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órmulas e Fun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5280" y="9075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este capítulo veremos como se trabalha com fórmulas e funções que são as ferramentas que mais nos ajudam nos cálculos repetitiv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01760" y="1483920"/>
            <a:ext cx="32364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Operadores mate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98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usa algumas convenções da Informática e da Matemática para escrever fórmulas. Os símbolos usados nas operações básica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-789120" y="2506680"/>
            <a:ext cx="6870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Aritmé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ão usados para as operações aritméticas bás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3357720"/>
          <a:ext cx="7848720" cy="2743200"/>
        </p:xfrm>
        <a:graphic>
          <a:graphicData uri="http://schemas.openxmlformats.org/drawingml/2006/table">
            <a:tbl>
              <a:tblPr/>
              <a:tblGrid>
                <a:gridCol w="1170000"/>
                <a:gridCol w="1936800"/>
                <a:gridCol w="1501560"/>
                <a:gridCol w="1606680"/>
                <a:gridCol w="163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gite na cél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o Excel exi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+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3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er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pl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*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ra 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vis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4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nto Circunfle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tenci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^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9320-FA80-443A-88EB-74B45D53A24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Notas%20bimestrais%202"/>
          <p:cNvPicPr/>
          <p:nvPr/>
        </p:nvPicPr>
        <p:blipFill>
          <a:blip r:embed="rId1"/>
          <a:stretch/>
        </p:blipFill>
        <p:spPr>
          <a:xfrm>
            <a:off x="1763640" y="333360"/>
            <a:ext cx="5616720" cy="2297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021480" y="259452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1 Planilha Notas bimestra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49440" y="2977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operação para as outras células. Se você não quiser ter muito trabalho dê uma olhada no assunto que vem a seguir: cópia de fórmulas. Não esqueça de formatar as células novas e de salvar as alterações na planilh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40800" y="4005000"/>
            <a:ext cx="5013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so de dois pontos e de ponto e vírgu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-541440" y="4365720"/>
            <a:ext cx="2965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Dois pontos (: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11280" y="48434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dois pontos é usado nas fórmulas para definir um intervalo de células. Nós já o usamos na função SOMA e na função MÉDIA. Veja os exempl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SOMA(A3:A10)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3:A10 pode ser lido como intervalo de células entre A3 e A10, ou seja, estão incluídas no intervalo as células A3, A4, A5, A6, A7, A8, A9 e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310-9508-4291-A5F2-AC6008AFB7D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-396720" y="774000"/>
            <a:ext cx="8713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Ponto e vírgula (;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ponto é vírgula é usado nas fórmulas para separar dados e intervalos. Vamos exemplifica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SOMA(A3:A6;A8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emos a fórmula assim: Soma dos valores dos intervalos de A3 até A6 e de A8 até A10. Ou seja, será feita a soma dos valores de A3, A4, A5, A6 e também de A8, A9 e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950920"/>
            <a:ext cx="2498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opiando fórmu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55640" y="34894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partir de um exemplo: o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ós digitamos a fórmula para o cálculo da média de Português: =MÉDIA(B4:E4). Temos que digitar as fórmulas das médias de Matemática, História, Geografia, etc. As fórmulas são quase iguais. Neste caso podemos usar a cópia de fórm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opiar uma fórmula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057400" y="5524560"/>
            <a:ext cx="57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e também os botões Copiar e Colar da barra padr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Botão Copiar"/>
          <p:cNvPicPr/>
          <p:nvPr/>
        </p:nvPicPr>
        <p:blipFill>
          <a:blip r:embed="rId1"/>
          <a:stretch/>
        </p:blipFill>
        <p:spPr>
          <a:xfrm>
            <a:off x="826920" y="544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otão Colar"/>
          <p:cNvPicPr/>
          <p:nvPr/>
        </p:nvPicPr>
        <p:blipFill>
          <a:blip r:embed="rId2"/>
          <a:stretch/>
        </p:blipFill>
        <p:spPr>
          <a:xfrm>
            <a:off x="1476360" y="5424480"/>
            <a:ext cx="647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291-338C-481E-B91E-1CE1F82DDAC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762120" y="549360"/>
            <a:ext cx="658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que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di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pi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para onde a fórmula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di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l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operação 4 para colar a fórmula em outras cél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e ENTER para encerr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5640" y="24868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: as cópias de fórmulas geralmente não são idênticas à original. O Excel adapta a fórmula mudando o endereço das células. Veja o exempl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élula F4 temos a fórmula =MÉDIA(B4:E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copiarmos a fórmula em F4 para outras células o resultado será o seguin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5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5:E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6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6:E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7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7:E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-396720" y="4897800"/>
            <a:ext cx="885636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ópia por arras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tra forma de copiar fórmulas e valores para células próximas e por arraste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9A80-AFFB-4742-BB30-AC08819FF7A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84360" y="260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que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onte na alça que existe no canto inferior direito da célula. Repare que o ponteiro muda de forma quando apontamos para a alça da cél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rraste a alça para as células vizinhas, selecionando em quais você quer colar o conteú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lte o botão do mouse. Pronto o conteúdo da célula foi copiado nas células vizinh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80040" y="2420640"/>
            <a:ext cx="37742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Referência absoluta e rel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4360" y="3060720"/>
            <a:ext cx="77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ós vimos que o Excel adapta as fórmulas quando nós as copiamos para outras células. Por exemplo: Na célula C2 escrevemos a fórmula =B2*B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copiarmos esta fórmula para a célula C3 o resultado será: =B3*B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 adaptação das fórmulas copiadas nem sempre é interessante. Vamos dar um exemplo onde ocorrem problem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Cotação%20em%20dólar%202"/>
          <p:cNvPicPr/>
          <p:nvPr/>
        </p:nvPicPr>
        <p:blipFill>
          <a:blip r:embed="rId1"/>
          <a:stretch/>
        </p:blipFill>
        <p:spPr>
          <a:xfrm>
            <a:off x="828720" y="4579920"/>
            <a:ext cx="52560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2050920" y="6452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2 Planilha de preç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259-ED68-46EE-AC9F-0B7E5B3935A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55640" y="62064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o preço em reais poderíamos digitar na célula C2 a fórmula =B2*B8. O problema acontece se tentarmos copiar esta fórmula para as outras células. Copiando para a célula C3 o resultado será =B3*B9. Como não há cotação de dólar em B9 a tabela sairá com er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um caso desses é melhor escrever $B$8 em vez de B8. O símbolo cifrão faz com que a identificação da célula não se altere se movermos ou copiarmos a fórm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55640" y="26330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8 é uma referência relativa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B$8 é uma referência absolu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55280" y="2565000"/>
            <a:ext cx="121392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19280" y="3357720"/>
            <a:ext cx="77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m os dados do Excel podemos criar gráficos para apresentar melhor a informação. Neste capítulo veremos como criar, formatar e editar gráf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 o Excel criamos gráficos dos mais variados tipos. Os gráficos melhoram a visualização dos dados. Muitas vezes, passando os olhos num gráfico o leitor consegue tirar uma conclusão instantaneame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08840" y="4678200"/>
            <a:ext cx="40820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tapas de criação de um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0720" y="522900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udaremos as etapas através de um exemp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GRÁFICO DE EVOLUÇÃO DA POPUL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gráficos no Excel o primeiro passo é digitar numa planilha os dados que servirão de base para a montagem do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B51D-F32F-458D-8D3D-F94E2B17BD8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Planilha População brasileira"/>
          <p:cNvPicPr/>
          <p:nvPr/>
        </p:nvPicPr>
        <p:blipFill>
          <a:blip r:embed="rId1"/>
          <a:stretch/>
        </p:blipFill>
        <p:spPr>
          <a:xfrm>
            <a:off x="684360" y="333360"/>
            <a:ext cx="230976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59280" y="1657800"/>
            <a:ext cx="38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3 Planilha Evolução da população brasilei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-611280" y="3205440"/>
            <a:ext cx="878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digitar os dados podemos iniciar a criação do gráfico que é orientada pe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ssistente de 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1 Tipo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09480" y="4411800"/>
            <a:ext cx="75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Gráfic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ssistente de 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tipo de gráfico desejado. Escolheremos o tipo Colunas 3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481760" y="600084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e também o botão Assistente de gráfico da barra padr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Botão Assistente de gráfico"/>
          <p:cNvPicPr/>
          <p:nvPr/>
        </p:nvPicPr>
        <p:blipFill>
          <a:blip r:embed="rId2"/>
          <a:stretch/>
        </p:blipFill>
        <p:spPr>
          <a:xfrm>
            <a:off x="722160" y="5877000"/>
            <a:ext cx="6098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6D9-D0ED-4E69-AA36-AD7C287A379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Asssistente%20de%20gráfico%201"/>
          <p:cNvPicPr/>
          <p:nvPr/>
        </p:nvPicPr>
        <p:blipFill>
          <a:blip r:embed="rId1"/>
          <a:stretch/>
        </p:blipFill>
        <p:spPr>
          <a:xfrm>
            <a:off x="539640" y="549360"/>
            <a:ext cx="4168800" cy="3933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859280" y="21942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4 Assistente de gráfico Etapa 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-757080" y="4437000"/>
            <a:ext cx="5472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2 Intervalo e seqüê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95280" y="49165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tervalo,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m intervalo de dados, digite A5:B10. O intervalo também pode ser selecionado com o mouse. Clique em A5 e arraste até B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xclua a primeira seqüência de dados, pois, ela se refere aos anos e não queremos que eles apareçam como barr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1AE-7528-4D28-B08A-CDDF03620AA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39640" y="3459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3.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campo nome da seqüência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pul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No campo valores digite B5:B10, que é o intervalo de valores de populaçã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No campo Rótulos do eixo digite A5:B5, que é o intervalo de valores de a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0" descr="Asssistente%20de%20gráfico%202"/>
          <p:cNvPicPr/>
          <p:nvPr/>
        </p:nvPicPr>
        <p:blipFill>
          <a:blip r:embed="rId1"/>
          <a:stretch/>
        </p:blipFill>
        <p:spPr>
          <a:xfrm>
            <a:off x="3132000" y="1989000"/>
            <a:ext cx="3956040" cy="4381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3433320" y="636336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5 Assistente de gráfico Etapa 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DA3-6C09-4071-9E3C-E9AE18F4852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-396720" y="189000"/>
            <a:ext cx="4222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3 Opções de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755640" y="765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.Digite um título para o gráfico. Em nosso cas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volução da população  brasileir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.Digite um título para o eixo horizontal. Em nosso exempl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Digite um título para o eixo vertical: Em nosso cas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opulação em milhõe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egend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smarqu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strar legend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pois no nosso caso é desnecessá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.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Asssistente%20de%20gráfico%203"/>
          <p:cNvPicPr/>
          <p:nvPr/>
        </p:nvPicPr>
        <p:blipFill>
          <a:blip r:embed="rId1"/>
          <a:stretch/>
        </p:blipFill>
        <p:spPr>
          <a:xfrm>
            <a:off x="2340000" y="3141720"/>
            <a:ext cx="4859280" cy="30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2914560" y="62665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6 Assistente de gráfico Etapa 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EE0F-E568-4674-AC02-B77AA8A72A3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-397080" y="476280"/>
            <a:ext cx="3994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4 Local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9079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 última etapa é apenas para decidir se o gráfico vai ser um objeto dentro da planilha que contém os dados ou se vai ficar numa planilha em separa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colha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mo objeto em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lan1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nclu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Finalmente o gráfico apare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Asssistente%20de%20gráfico%204"/>
          <p:cNvPicPr/>
          <p:nvPr/>
        </p:nvPicPr>
        <p:blipFill>
          <a:blip r:embed="rId1"/>
          <a:stretch/>
        </p:blipFill>
        <p:spPr>
          <a:xfrm>
            <a:off x="826920" y="3057480"/>
            <a:ext cx="5832720" cy="25322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2184120" y="558864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7 Assistente de gráfico Etapa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8CA-7038-4CAC-A469-E4A39A63267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-536400" y="260280"/>
            <a:ext cx="6358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De compar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ão utilizados para fazer comparação de val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5640" y="1052640"/>
          <a:ext cx="7704000" cy="2560680"/>
        </p:xfrm>
        <a:graphic>
          <a:graphicData uri="http://schemas.openxmlformats.org/drawingml/2006/table">
            <a:tbl>
              <a:tblPr/>
              <a:tblGrid>
                <a:gridCol w="1481040"/>
                <a:gridCol w="2911680"/>
                <a:gridCol w="201600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ig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gual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g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n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gt;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n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difer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fere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&g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87"/>
          <p:cNvSpPr/>
          <p:nvPr/>
        </p:nvSpPr>
        <p:spPr>
          <a:xfrm>
            <a:off x="649440" y="3390840"/>
            <a:ext cx="34686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crita correta de fórmu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88"/>
          <p:cNvSpPr/>
          <p:nvPr/>
        </p:nvSpPr>
        <p:spPr>
          <a:xfrm>
            <a:off x="542520" y="4004640"/>
            <a:ext cx="76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- Devemos seguir algumas regras para inserir fórmulas numa célul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9"/>
          <p:cNvSpPr/>
          <p:nvPr/>
        </p:nvSpPr>
        <p:spPr>
          <a:xfrm>
            <a:off x="640080" y="4365000"/>
            <a:ext cx="62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*Toda fórmula no Excel começa com o sinal de igual (=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90"/>
          <p:cNvSpPr/>
          <p:nvPr/>
        </p:nvSpPr>
        <p:spPr>
          <a:xfrm>
            <a:off x="-614520" y="4366440"/>
            <a:ext cx="9290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Ordem das operaçõ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executa operações na mesma ordem usada pela Matemát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imeiro potenciação e radiciação, depois multiplicação e divisão e por último adição e subtração. Esta ordem pode ser alterada pelo uso de parênteses. O que está dentro de parênteses é executado primeiro, como na Matemáti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C76-4633-4991-A42D-AADD299F841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" descr="Gráfico%20população%20sem%20formatar"/>
          <p:cNvPicPr/>
          <p:nvPr/>
        </p:nvPicPr>
        <p:blipFill>
          <a:blip r:embed="rId1"/>
          <a:stretch/>
        </p:blipFill>
        <p:spPr>
          <a:xfrm>
            <a:off x="755640" y="620640"/>
            <a:ext cx="4608360" cy="2720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692640" y="3386520"/>
            <a:ext cx="42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8 Gráfico Evolução da população brasilei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3640" y="4535280"/>
            <a:ext cx="2795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ormatando 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4360" y="503352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criar o gráfico sempre aparecem detalhes para ajustar. É hora de formatar o gráfico. O gráfico é composto por  vários elementos. Os principai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19E-FDC6-46D2-9644-FEAA6E278D0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765000"/>
          <a:ext cx="7345440" cy="3108600"/>
        </p:xfrm>
        <a:graphic>
          <a:graphicData uri="http://schemas.openxmlformats.org/drawingml/2006/table">
            <a:tbl>
              <a:tblPr/>
              <a:tblGrid>
                <a:gridCol w="2217960"/>
                <a:gridCol w="5127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rea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 o quadro que contém todos os elementos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rea de plota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 um quadro menor que contém todos os elementos menos o t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r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planos que ficam atrás das barr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ix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 eixos aparecem os valores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inhas de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linhas auxiliares que formam uma grade nas paredes e facilitam a leitura dos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qüências de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as barras no gráfico de bar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ege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legenda identifica as seqüências de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92"/>
          <p:cNvSpPr/>
          <p:nvPr/>
        </p:nvSpPr>
        <p:spPr>
          <a:xfrm>
            <a:off x="684360" y="3952440"/>
            <a:ext cx="76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: Cada tipo de gráfico tem suas particularidades de formatação. O gráfico de barras é formatado diferente do gráfico tipo pizzas ou do tipo linh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94"/>
          <p:cNvSpPr/>
          <p:nvPr/>
        </p:nvSpPr>
        <p:spPr>
          <a:xfrm>
            <a:off x="-468360" y="4780440"/>
            <a:ext cx="885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00"/>
                </a:solidFill>
                <a:latin typeface="Arial"/>
              </a:rPr>
              <a:t>Área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área do gráfico pode ser movida e redimensionada. Para mover a área, clique nela e arraste-a para uma nova posição. Para redimensionar selecione-a com o mouse e arraste uma das alças que aparecem em volta do quad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048-BC3D-412A-8C49-D2C97CF40DB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11280" y="4759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formatar a área do gráfico, clique nela e depois,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Área do gráfico selecionada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rá possível definir a fonte, cor e padrão de fun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Formatar%20área%20do%20gráfico"/>
          <p:cNvPicPr/>
          <p:nvPr/>
        </p:nvPicPr>
        <p:blipFill>
          <a:blip r:embed="rId1"/>
          <a:stretch/>
        </p:blipFill>
        <p:spPr>
          <a:xfrm>
            <a:off x="684360" y="1413000"/>
            <a:ext cx="4824360" cy="3646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7800" y="503604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9 Caixa de diálogo Formatar área do gráfic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-611640" y="5373720"/>
            <a:ext cx="3268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Área de plotag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39640" y="5805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área de plotagem é um quadro menor que contém todos os elementos do gráfico menos o título. Podemos movê-la e redimensioná-la. Basicamente o que podemos formatar nela é 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AFB-B518-46F1-9896-90E9BB61565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4360" y="62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ão de cores. Para fazer isso a selecione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Área de plotagem selecionad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3" descr="Formatar%20área%20de%20plotagem"/>
          <p:cNvPicPr/>
          <p:nvPr/>
        </p:nvPicPr>
        <p:blipFill>
          <a:blip r:embed="rId1"/>
          <a:stretch/>
        </p:blipFill>
        <p:spPr>
          <a:xfrm>
            <a:off x="750960" y="1295280"/>
            <a:ext cx="4252680" cy="364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70320" y="4897800"/>
            <a:ext cx="45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0 Caixa de diálogo Formatar área de plotage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-541440" y="5085000"/>
            <a:ext cx="885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00"/>
                </a:solidFill>
                <a:latin typeface="Arial"/>
              </a:rPr>
              <a:t>Paredes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paredes ficam atrás das barras e o que podemos formatar nelas é o padrão de cores. Clique na parede e depois,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aredes selecionada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F87-04B3-4A39-BC01-F4144CFB04F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324000" y="412920"/>
            <a:ext cx="8856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x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Clique num dos eixos, horizontal ou vertical,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ixo selecionado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Será possível formatar a fonte, o alinhamento do texto, a escala do eixo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Formatar%20eixo"/>
          <p:cNvPicPr/>
          <p:nvPr/>
        </p:nvPicPr>
        <p:blipFill>
          <a:blip r:embed="rId1"/>
          <a:stretch/>
        </p:blipFill>
        <p:spPr>
          <a:xfrm>
            <a:off x="971640" y="1844640"/>
            <a:ext cx="4248000" cy="3638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89560" y="55393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1 Caixa de diálogo formatar eix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5C2F-191C-44A2-A2DF-21EF4CDEDFA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-324000" y="405000"/>
            <a:ext cx="87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 de d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uma das barras do gráfico para formatar a seqüência de dados.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s de dados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rá possível alterar a forma das barras, o padrão de cores, profundidad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3" descr="Formatar%20sequencia%20de%20dados"/>
          <p:cNvPicPr/>
          <p:nvPr/>
        </p:nvPicPr>
        <p:blipFill>
          <a:blip r:embed="rId1"/>
          <a:stretch/>
        </p:blipFill>
        <p:spPr>
          <a:xfrm>
            <a:off x="941400" y="1790640"/>
            <a:ext cx="4710240" cy="3870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884160" y="56185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2 Caixa de diálogo Formatar seqüências de d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7318-D910-4E6D-A3C9-AD8C3CE38A0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-468360" y="405360"/>
            <a:ext cx="8856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nhas de gr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linhas de grade dividem a parede do gráfico em faixas. Servem para auxiliar a leitura do gráfico. Para formatá-las clique numa linha de grade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nhas de grade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bserve a figura seguinte e compare com o gráfico antes da formatação. Veja como a formatação pode melhorar a aparência de um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3" descr="Gráfico Evolução da População brasileira formatado"/>
          <p:cNvPicPr/>
          <p:nvPr/>
        </p:nvPicPr>
        <p:blipFill>
          <a:blip r:embed="rId1"/>
          <a:stretch/>
        </p:blipFill>
        <p:spPr>
          <a:xfrm>
            <a:off x="2771640" y="2276640"/>
            <a:ext cx="4114800" cy="382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2394000" y="6091920"/>
            <a:ext cx="50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3 Gráfico Evolução da população brasileira format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E6A4-6743-4C46-9EAC-48CD882F536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755640" y="-360"/>
            <a:ext cx="24134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ditando 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57080" y="4377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vezes criamos e formatamos um gráfico e só mais tarde notamos que alguma informação precisa ser mudada. Com o Excel, a qualquer momento, podemos alterar valores, acrescentar dados, mudar o tipo do gráfico, trocar os título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84360" y="162828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um valor do gráfico precisa ser mudado, basta digitar o novo valor na planilha base do gráfico. Alterações feitas nos valores da planilha alteram imediatamente o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4360" y="263664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dificar um gráfico, selecione a área do gráfico. Note que surge na barra de menus do Excel o it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este menu ficam os comandos de edição. Vejamos os comandos do menu Gráfic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26920" y="3600360"/>
          <a:ext cx="7490160" cy="2651040"/>
        </p:xfrm>
        <a:graphic>
          <a:graphicData uri="http://schemas.openxmlformats.org/drawingml/2006/table">
            <a:tbl>
              <a:tblPr/>
              <a:tblGrid>
                <a:gridCol w="1990800"/>
                <a:gridCol w="5499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um clique de mouse alteramos o tipo do gráfico selecion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dos de 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este comando podemos mudar os intervalos da planilha base que alimentam o gráfico com informaçõ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ções de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este comando alteramos os títulos, legenda, rótulos, et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 alterar o local onde o gráfico é inseri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feito 3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tera a aparência de gráficos tridimensiona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381E-6729-4692-8414-5D6B44154F2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Exibição%203D"/>
          <p:cNvPicPr/>
          <p:nvPr/>
        </p:nvPicPr>
        <p:blipFill>
          <a:blip r:embed="rId1"/>
          <a:stretch/>
        </p:blipFill>
        <p:spPr>
          <a:xfrm>
            <a:off x="611280" y="549360"/>
            <a:ext cx="4681440" cy="3120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582120" y="3602520"/>
            <a:ext cx="33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4 Caixa de diálogo Exibição 3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8920" y="3789000"/>
            <a:ext cx="33735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colha do tipo d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39640" y="44258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 gráfico pode facilitar a interpretação de dados, mas é preciso escolher o tipo correto de gráfico para cada tipo de informação. Veja algumas dicas sobre escolha de gráfic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strar a evolução de valores ao longo do tempo prefira gráficos de barras ou de linhas. Por exemplo: o crescimento do número de usuários de computador ao longo dos a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1F45-353A-43CE-AB30-6A25EC8991D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84360" y="333360"/>
            <a:ext cx="77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gráficos matemáticos contínuos prefira o tipo linhas suavizadas. Por exemplo: gráficos de equaçõ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strar a participação das partes num conjunto use gráfico tipo pizza. Por exemplo: gráficos com a porcentagem de cada grupo racial no total da população brasilei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47280" y="1412640"/>
            <a:ext cx="255672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erenciando d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11280" y="213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este capítulo veremos como gerenciar volumes grandes de informação classificando, filtrando, resumindo e analisando d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exemplificar o gerenciamento de dados com os dados da planilha seguin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5" descr="Planilha preços de automóveis"/>
          <p:cNvPicPr/>
          <p:nvPr/>
        </p:nvPicPr>
        <p:blipFill>
          <a:blip r:embed="rId1"/>
          <a:stretch/>
        </p:blipFill>
        <p:spPr>
          <a:xfrm>
            <a:off x="1692360" y="3357720"/>
            <a:ext cx="5688000" cy="2985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700360" y="638208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5 Planilha Preços de automóve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002-FAD3-4421-9804-62270C9AC41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-541440" y="45000"/>
            <a:ext cx="9001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Uso de parênte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Matemática as fórmulas podem ser representadas em duas dimensões. No Excel escrevemos as fórmulas colocando os caracteres em linha, usando parênteses sempre que for necessário para definir a ordem em que as operações serão executadas. Veja os exempl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2"/>
              <p:cNvSpPr txBox="1"/>
              <p:nvPr/>
            </p:nvSpPr>
            <p:spPr>
              <a:xfrm>
                <a:off x="755640" y="2492280"/>
                <a:ext cx="2736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6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4"/>
              <p:cNvSpPr txBox="1"/>
              <p:nvPr/>
            </p:nvSpPr>
            <p:spPr>
              <a:xfrm>
                <a:off x="826920" y="3139920"/>
                <a:ext cx="2627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Rectangle 6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6"/>
              <p:cNvSpPr txBox="1"/>
              <p:nvPr/>
            </p:nvSpPr>
            <p:spPr>
              <a:xfrm>
                <a:off x="900000" y="3789360"/>
                <a:ext cx="2664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Rectangle 73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76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9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8000" y="1700280"/>
          <a:ext cx="5400720" cy="2917800"/>
        </p:xfrm>
        <a:graphic>
          <a:graphicData uri="http://schemas.openxmlformats.org/drawingml/2006/table">
            <a:tbl>
              <a:tblPr/>
              <a:tblGrid>
                <a:gridCol w="2935440"/>
                <a:gridCol w="246528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 calcular a fórmula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gite no Excel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A1/A2+(A3-A4)/A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(B2-B3)*B4/(B5-B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-C1/C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133"/>
          <p:cNvSpPr/>
          <p:nvPr/>
        </p:nvSpPr>
        <p:spPr>
          <a:xfrm>
            <a:off x="609480" y="4581360"/>
            <a:ext cx="41234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nserindo funções numa fórmu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134"/>
          <p:cNvSpPr/>
          <p:nvPr/>
        </p:nvSpPr>
        <p:spPr>
          <a:xfrm>
            <a:off x="611280" y="505944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nções são comandos do Excel que executam operações repetitivas ou complexas. Vamos exemplificar. N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fizemos alguns cálculos de média. A média anual de cada disciplina foi calculada somando as quatro notas bimestrais e dividindo o resultado por quatro. Na célula da média de Português digitam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0A9-E422-4BE2-8FE5-177338593F1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820080" y="620640"/>
            <a:ext cx="18082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lassific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6920" y="124920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Excel não é preciso se preocupar com a ordem que digitamos listas de dados. O Excel tem a ferramenta de classificação para nos ajud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classificar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seguinte maneira: vamos organizar os carros por marca e por preço, começando pelo carro mais caro de cada marca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282312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intervalo de dados dos preços (A3:D2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 po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lecione 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arc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ordem crescente. Deste modo o Excel vai reorganizar as linhas para que os carros da mesma marca fiquem jun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m seguida po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lecione 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ordem decrescente. Deste modo, depois de organizar por marca o Excel vai organizar pelo preço, começando pelo mai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FDB-3D70-457D-A1AD-BB1C6962D02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2" descr="Classificar"/>
          <p:cNvPicPr/>
          <p:nvPr/>
        </p:nvPicPr>
        <p:blipFill>
          <a:blip r:embed="rId1"/>
          <a:stretch/>
        </p:blipFill>
        <p:spPr>
          <a:xfrm>
            <a:off x="826920" y="260280"/>
            <a:ext cx="3457800" cy="275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4284720" y="11718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6 Caixa de diálogo Classifica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Planilha preços de automóveis classificada"/>
          <p:cNvPicPr/>
          <p:nvPr/>
        </p:nvPicPr>
        <p:blipFill>
          <a:blip r:embed="rId2"/>
          <a:stretch/>
        </p:blipFill>
        <p:spPr>
          <a:xfrm>
            <a:off x="826920" y="3141720"/>
            <a:ext cx="5400720" cy="3614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300720" y="4517640"/>
            <a:ext cx="1366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7 Planilha Preços de automóveis classific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AC6-BC8E-407F-8D7B-0317A664694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755640" y="188640"/>
            <a:ext cx="1800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iltr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55640" y="68112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erramenta de filtragem é boa para selecionar dados numa lista grande. Filtrar é exibir dados que atendem uma certa condição e ocultar os dema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filtrar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seguinte maneira: Vamos exibir apenas as linhas dos carros da categoria Sedan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55640" y="2393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intervalo de dados (A3:D2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urgirão botões ao lado de cada título de colu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do títu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selecion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da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62120" y="358380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 o Excel exibirá apenas as linhas dos carros Sed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6" descr="Planilha preços de automóveis filtrada 1"/>
          <p:cNvPicPr/>
          <p:nvPr/>
        </p:nvPicPr>
        <p:blipFill>
          <a:blip r:embed="rId1"/>
          <a:stretch/>
        </p:blipFill>
        <p:spPr>
          <a:xfrm>
            <a:off x="1835280" y="4221000"/>
            <a:ext cx="5832360" cy="2095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2599920" y="6380640"/>
            <a:ext cx="40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8  Planilha Preços de automóveis filtr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54CE-8E62-48DB-A8EF-1ED96A34779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720720" y="47592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exibir as linhas ocultas pela filtragem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strar tu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fazer mais uma filtragem de modo diferente. Vamos exibir apenas os carros que custam menos de R$ 20.000,00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730080" y="1700280"/>
            <a:ext cx="75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d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colha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sonaliz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sonalizar 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primeiro campo selecion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é menor do qu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segundo campo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20.000,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Personalizar%20autofiltro"/>
          <p:cNvPicPr/>
          <p:nvPr/>
        </p:nvPicPr>
        <p:blipFill>
          <a:blip r:embed="rId1"/>
          <a:stretch/>
        </p:blipFill>
        <p:spPr>
          <a:xfrm>
            <a:off x="2411280" y="3500280"/>
            <a:ext cx="4967280" cy="2881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2791440" y="6410880"/>
            <a:ext cx="41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9 Caixa de diálogo Personalizar AutoFil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DD11-9D12-4A02-A9D4-4B556CACA7D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2" descr="Planilha preços de automóveis filtrada 2"/>
          <p:cNvPicPr/>
          <p:nvPr/>
        </p:nvPicPr>
        <p:blipFill>
          <a:blip r:embed="rId1"/>
          <a:stretch/>
        </p:blipFill>
        <p:spPr>
          <a:xfrm>
            <a:off x="2050920" y="260280"/>
            <a:ext cx="5400720" cy="2981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2353680" y="317088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0 Planilha Preços de automóveis filtrada por preç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4360" y="342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remover um filtro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desmarqu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84720" y="411156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ormulá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611280" y="443880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ndo temos dados para digitar em listas grandes, podemos recorrer à ajuda dos formulários do Excel. Digitar dados num formulário muitas vezes é mais prático que digitá-los diretamente na li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tes de trabalhar com formulários vamos entender os termos usados. Um formulário é uma caixa de diálogo com vários campos. Cada campo representa uma coluna da lista. O conjunto de todos os dados de uma linha da tabela compõe um registro. Agora vamos exemplific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AA6-AA38-418E-B15C-7B79C32C0B0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28720" y="476280"/>
          <a:ext cx="7343640" cy="639720"/>
        </p:xfrm>
        <a:graphic>
          <a:graphicData uri="http://schemas.openxmlformats.org/drawingml/2006/table">
            <a:tbl>
              <a:tblPr/>
              <a:tblGrid>
                <a:gridCol w="7343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s textos da primeira linha da tabela são usados como rótulo dos campos do formulári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4"/>
          <p:cNvSpPr/>
          <p:nvPr/>
        </p:nvSpPr>
        <p:spPr>
          <a:xfrm>
            <a:off x="826920" y="1052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alguma célula da lista de preços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ulári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urgirá um formulário na te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incluir um registro no formulário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v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e os dados nos campos do formulário. Para passar de um campo a outro use a tecla TAB. No final da digitação tecle ENTER. Os registros novos serão incluídos no final da li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digitar os novos registros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ech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15" descr="Formulário"/>
          <p:cNvPicPr/>
          <p:nvPr/>
        </p:nvPicPr>
        <p:blipFill>
          <a:blip r:embed="rId1"/>
          <a:stretch/>
        </p:blipFill>
        <p:spPr>
          <a:xfrm>
            <a:off x="2557440" y="3429000"/>
            <a:ext cx="4535640" cy="3009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6"/>
          <p:cNvSpPr/>
          <p:nvPr/>
        </p:nvSpPr>
        <p:spPr>
          <a:xfrm>
            <a:off x="3749400" y="645228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1 Formulá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5B80-1BA9-4882-85E1-0C42FD9ED29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709920" y="549000"/>
            <a:ext cx="13406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ubtot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84360" y="105228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mando subtotais permite obter várias informações de uma lista de dados. Vamos partir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Com o comando subtotais podemos obter informações como as seguint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88680" y="1950840"/>
            <a:ext cx="57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quantos carros de cada marca estão na tabe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édio dos carros de cada categ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áximo dos carros de cada mar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ínimo dos carros em cada categoria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84360" y="31474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usar os subtotais para saber qual é o preço médio dos carros em cada categoria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84360" y="3789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s dados da tabela e classifique-a primeiro por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depois por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crescente. Caso não se lembre como fazer isso volte atrás no it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sta aposti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 cada alter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Usa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B0A-B616-40A3-A610-123FF247ABC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29440" y="619920"/>
            <a:ext cx="45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cria os subtotais para nós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3" descr="Planilha preços de automóveis com subtotais"/>
          <p:cNvPicPr/>
          <p:nvPr/>
        </p:nvPicPr>
        <p:blipFill>
          <a:blip r:embed="rId1"/>
          <a:stretch/>
        </p:blipFill>
        <p:spPr>
          <a:xfrm>
            <a:off x="892080" y="1052640"/>
            <a:ext cx="4327560" cy="45831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811800" y="5618520"/>
            <a:ext cx="458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2 Planilha Preços de automóveis com subtota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26920" y="589716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ncelar a exibição de subtotais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a caixa de diálogo, 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mover to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13E-EFBE-4F21-8ADE-B38C24E4FD2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721080" y="620640"/>
            <a:ext cx="25552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Validação de d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119772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validação é um mecanismo que permite controlar a digitação de dados. Podemos definir que alguns valores não serão aceitos numa célula. Vamos a um exempl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empresa atacadista de equipamentos de Informática tira seus pedidos de compra no Excel. No pedido de compra há uma tabela com as seguintes colunas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odut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unitári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Vamos criar uma validação de dados nas células da quantidade. Queremos que sejam aceitos apenas números inteiros maiores que 3. Isso porque 3 é o pedido mínimo aceito pela empresa e inteiros porque não dá para cortar os equipamentos e vender em pedacinh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Pedido%20de%20compra"/>
          <p:cNvPicPr/>
          <p:nvPr/>
        </p:nvPicPr>
        <p:blipFill>
          <a:blip r:embed="rId1"/>
          <a:stretch/>
        </p:blipFill>
        <p:spPr>
          <a:xfrm>
            <a:off x="755640" y="4076640"/>
            <a:ext cx="6408720" cy="2160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676800" y="626652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3 Planilha Pedido de comp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6DF3-D9AA-4FD9-949F-76B88BAB018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2320" y="47556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uma validação de dados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26920" y="76572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s células do item quantidade (A4:A7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 de d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mit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úmero intei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aior do qu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ínim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 entrada digite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ítul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ínimo 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lerta de er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igite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ítul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 quantidade mínima é 0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4" descr="Validação%20de%20dados"/>
          <p:cNvPicPr/>
          <p:nvPr/>
        </p:nvPicPr>
        <p:blipFill>
          <a:blip r:embed="rId1"/>
          <a:stretch/>
        </p:blipFill>
        <p:spPr>
          <a:xfrm>
            <a:off x="2770200" y="3933720"/>
            <a:ext cx="4465800" cy="2446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2986920" y="6380640"/>
            <a:ext cx="39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4 Caixa de diálogo validação de d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A6EE-DF9B-4992-8B87-64A521F17C9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5640" y="54936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(B4+C4+D4+E4)/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deu muito trabalho porque havia poucos números envolvidos. Mas imagine usar este método para tirar a média de uma lista com centenas de valores. Neste caso devemos apelar para a função média. Vamos obter o mesmo resultado para a média de Português se digitarm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4:E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755640" y="240408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órmula acima pode ser lida assim: Média dos valores contidos no intervalo de células que vai de B4 até E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em, agora que sabemos que existem funções no Excel para facilitar nossa vida. Resta saber quais são estas funções e como escrevê-las corretamente numa fórmula. O Excel tem muitas funções, cada uma com suas particularidades. É melhor começar pelas mais usadas para depois, aos poucos, ir conhecendo as demais funçõ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da função tem um modo correto para ser escrita. É o que chamamos em Informática de sintaxe do comando. Só os comandos escritos na sintaxe correta serão executados. Vamos agora passar ao estudo das funções mais usadas: SOMA, MÉDIA e 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7287-0DB6-4736-BBF6-D76598DE686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84360" y="475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não aceitará qualquer valor na coluna das quantidades. Quando o usuário selecionar uma célula receberá uma mensagem de entrada. Se o usuário tentar digitar um valor inválido será avisado por uma caixa de aler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3" descr="Pedido%20de%20compra%202"/>
          <p:cNvPicPr/>
          <p:nvPr/>
        </p:nvPicPr>
        <p:blipFill>
          <a:blip r:embed="rId1"/>
          <a:stretch/>
        </p:blipFill>
        <p:spPr>
          <a:xfrm>
            <a:off x="755640" y="1628640"/>
            <a:ext cx="4848120" cy="21592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676440" y="3745440"/>
            <a:ext cx="27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5 Mensagem de entr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5" descr="Quantidade%20de%20validação"/>
          <p:cNvPicPr/>
          <p:nvPr/>
        </p:nvPicPr>
        <p:blipFill>
          <a:blip r:embed="rId2"/>
          <a:stretch/>
        </p:blipFill>
        <p:spPr>
          <a:xfrm>
            <a:off x="755640" y="4076640"/>
            <a:ext cx="2222640" cy="151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677160" y="554580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6 Alerta de valida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82560" y="58258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remover uma validação, primeiro selecione as células. Em seguida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Na caixa de diálogo 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mpar tu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8C9-237F-41A2-A946-4E0AC6362DA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909720" y="549000"/>
            <a:ext cx="26557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e tóp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900000" y="105228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estrutura de tópicos organiza os dados em níveis. Deste modo, podemos exibir todos os detalhes de uma planilha ou selecionar apenas os dados mais gerais. Vamos exemplificar através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latório de ven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Planilha Relatório de vendas"/>
          <p:cNvPicPr/>
          <p:nvPr/>
        </p:nvPicPr>
        <p:blipFill>
          <a:blip r:embed="rId1"/>
          <a:stretch/>
        </p:blipFill>
        <p:spPr>
          <a:xfrm>
            <a:off x="981000" y="2276640"/>
            <a:ext cx="4454640" cy="4114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882720" y="6404400"/>
            <a:ext cx="51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7 Planilha Relatório de vendas estruturada em tóp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399-56CE-4266-AABF-2B1F3B1657C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82560" y="4964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sta planilha temos três opções de exibição: Podemos mostrar todos os dados, ou apenas os resultados por região, ou só o resultado geral do paí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3" descr="Planilha Relatório de vendas com  tópicos recolhidos"/>
          <p:cNvPicPr/>
          <p:nvPr/>
        </p:nvPicPr>
        <p:blipFill>
          <a:blip r:embed="rId1"/>
          <a:stretch/>
        </p:blipFill>
        <p:spPr>
          <a:xfrm>
            <a:off x="755640" y="1484280"/>
            <a:ext cx="4444920" cy="21589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639360" y="3602520"/>
            <a:ext cx="62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8 Planilha Relatório de vendas  com tópicos recolhidos parcialm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5" descr="Planilha Relatório de vendas com  tópicos totalmente recolhidos"/>
          <p:cNvPicPr/>
          <p:nvPr/>
        </p:nvPicPr>
        <p:blipFill>
          <a:blip r:embed="rId2"/>
          <a:stretch/>
        </p:blipFill>
        <p:spPr>
          <a:xfrm>
            <a:off x="755640" y="4149720"/>
            <a:ext cx="4444920" cy="1224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6"/>
          <p:cNvSpPr/>
          <p:nvPr/>
        </p:nvSpPr>
        <p:spPr>
          <a:xfrm>
            <a:off x="657360" y="5402880"/>
            <a:ext cx="60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9 Planilha Relatório de vendas com tópicos totalmente recolhi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84360" y="56811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zemos as mudanças no modo de exibição clicando nos botões + e – do lado esquerdo da planilha. São os botões da estrutura de tópicos. O botão + expande a exibição. O botão – recolhe a exibi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556-AA3E-4F15-ADD9-F727A0047C1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33480" y="61380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uma estrutura de tópicos na planilha faça o segui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900000" y="1188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s dados da planilha que serão estruturad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rganizar estrutura de 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Em seguida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900000" y="210384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criará a estrutura de tópicos. Este método simples só funciona para algumas planilhas como a que usamos no exemplo. A criação automática só dá certo quando o Excel encontra a planilha preparada. A inclusão de células com a função SOMA ajuda a estruturação em tóp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o comando AutoTópicos não funcionar você pode criar a estrutura manualmente. É simples. Você só tem que agrupar as linhas para criar as chaves da estrutura de tóp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grupar as linhas da região Centro Oeste, por exemplo,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900000" y="50022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s linhas 5,6 e 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rganizar estrutura de 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grup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mesma operação para agrupar as demais regiões. Para criar a chave geral selecione as linhas  de 4 a 20 e aplique o comando Agrup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0ACF-40AF-44CD-B700-59CB51C2D7B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2" descr="Menu%20tópicos"/>
          <p:cNvPicPr/>
          <p:nvPr/>
        </p:nvPicPr>
        <p:blipFill>
          <a:blip r:embed="rId1"/>
          <a:stretch/>
        </p:blipFill>
        <p:spPr>
          <a:xfrm>
            <a:off x="719280" y="231840"/>
            <a:ext cx="2700360" cy="22604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"/>
          <p:cNvSpPr/>
          <p:nvPr/>
        </p:nvSpPr>
        <p:spPr>
          <a:xfrm>
            <a:off x="3492360" y="866880"/>
            <a:ext cx="11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50 Menu Tóp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10920" y="2420640"/>
            <a:ext cx="24422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Tabelas dinâm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11280" y="2852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tabelas dinâmicas são ótimas para analisar dados de grandes listas. Vamos exemplificar. Veja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ntrole diário de ven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6" descr="Planilha controle diário de vendas"/>
          <p:cNvPicPr/>
          <p:nvPr/>
        </p:nvPicPr>
        <p:blipFill>
          <a:blip r:embed="rId2"/>
          <a:stretch/>
        </p:blipFill>
        <p:spPr>
          <a:xfrm>
            <a:off x="684360" y="3500280"/>
            <a:ext cx="4248000" cy="32115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>
            <a:off x="5292720" y="465804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5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lanilha Controle diário de vend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0048-270E-4CC8-80CD-7B61D4B1195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13080" y="333000"/>
            <a:ext cx="8726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11280" y="8254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função SOMA é ótima para fazer a soma do conteúdo de várias células. Veja no exemplo seguinte a sintaxe da funç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=SOM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emos ler a fórmula assim: Soma dos valores do intervalo que vai da célula A3 até a célula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25560" y="2576520"/>
            <a:ext cx="15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3" descr="Botão AutoSoma"/>
          <p:cNvPicPr/>
          <p:nvPr/>
        </p:nvPicPr>
        <p:blipFill>
          <a:blip r:embed="rId1"/>
          <a:stretch/>
        </p:blipFill>
        <p:spPr>
          <a:xfrm>
            <a:off x="684360" y="2276640"/>
            <a:ext cx="64764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25560" y="3490920"/>
          <a:ext cx="1508040" cy="51768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6"/>
          <p:cNvSpPr/>
          <p:nvPr/>
        </p:nvSpPr>
        <p:spPr>
          <a:xfrm>
            <a:off x="1368360" y="22046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cê também pode inserir a função SOMA numa célula usando apenas cliques de mouse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11280" y="29804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onde será inserida a fun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barra padr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seleciona automaticamente um intervalo de células próximo. Se você aceitar a sugestão conclua pressionando EN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escolher um intervalo diferente clique na primeira célula e arraste o ponteiro até a última célula do intervalo desejado. As células selecionadas ficarão realçadas com uma moldura animada do tipo formigas marchan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e EN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escreve a fórmula na célula selecionada baseado nas informações dadas com os cliques de mou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59F-775C-4CC5-A4A1-FCBCA05D742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6560" y="404640"/>
            <a:ext cx="21740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Média aritmé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9082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álculo de média aritmética é feito pela função MËDIA. Esta função soma todos os valores de um intervalo e divide o resultado pelo número de células do interva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exemplificar a sintaxe da função média. Para calcular a média dos valores do intervalo entre a célula A3 até a célula A10 escrev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forma prática de inserir funções é usar 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Com ele não precisamos conhecer detalhes da sintaxe da função. Vamos exemplific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33760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onde será inserida a fun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42922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 Escolha a função desejada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Por exemplo: a função estatística MÉDIA. Surgirá a caixa de diálogo da funçã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68360" y="5013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. Digite as informações necessárias para definir a função. Por exemplo: a função MÉDIA pede o intervalo de células. Digite o intervalo 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úm1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erá algo como A3: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5. Conclua co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ACA3-3464-4356-8E1A-099A50E9093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Insrir%20função"/>
          <p:cNvPicPr/>
          <p:nvPr/>
        </p:nvPicPr>
        <p:blipFill>
          <a:blip r:embed="rId1"/>
          <a:stretch/>
        </p:blipFill>
        <p:spPr>
          <a:xfrm>
            <a:off x="1260360" y="149400"/>
            <a:ext cx="6336000" cy="313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2504880" y="326772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18 Caixa de diálogo Inserir fun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Argumento%20de%20função"/>
          <p:cNvPicPr/>
          <p:nvPr/>
        </p:nvPicPr>
        <p:blipFill>
          <a:blip r:embed="rId2"/>
          <a:stretch/>
        </p:blipFill>
        <p:spPr>
          <a:xfrm>
            <a:off x="1332000" y="3789360"/>
            <a:ext cx="6262560" cy="2603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907720" y="6380640"/>
            <a:ext cx="264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19 Assistente de fun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5EB-D53A-40CF-96EC-40420E0CFD6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13440" y="333000"/>
            <a:ext cx="1494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unção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36120" y="829440"/>
            <a:ext cx="73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unção SE é do tipo lógica. Vamos estudá-la através de um exemp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531360" y="1196280"/>
            <a:ext cx="51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USANDO A FUNÇÃO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84360" y="148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bra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crie mais uma coluna na tabela, ao lado da média anual, com o títu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4360" y="21337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amos que a média para aprovação seja 7,0. O Excel escreverá a palavr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PROV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n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 média for maior ou igual a 7,0 e a palavr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XAM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 a nota for inferior a 7,0. Faremos isso com a função 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unção SE envolve três informações, também chamadas argumentos. Vejamos quai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68360" y="4094280"/>
          <a:ext cx="4997520" cy="1927080"/>
        </p:xfrm>
        <a:graphic>
          <a:graphicData uri="http://schemas.openxmlformats.org/drawingml/2006/table">
            <a:tbl>
              <a:tblPr/>
              <a:tblGrid>
                <a:gridCol w="1419480"/>
                <a:gridCol w="357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ste l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ificar se a média anual é igual ou superior a 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 se verdad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crever a palavra APROV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 se fal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crever a palavra EXAM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A298-8332-492C-9F0A-4B58D6B5C8E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5280" y="6858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ao lado da média anual de Portuguê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la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a função lógica SE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ixa de diálogo da função SE digite os valores dos três argumentos que são teste lógico, valor se verdadeiro e valor se falso. Veja na figura como foram digit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2852640"/>
          <a:ext cx="6192720" cy="365400"/>
        </p:xfrm>
        <a:graphic>
          <a:graphicData uri="http://schemas.openxmlformats.org/drawingml/2006/table">
            <a:tbl>
              <a:tblPr/>
              <a:tblGrid>
                <a:gridCol w="61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ote: Texto deve ser digitado entre asp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16" descr="Argumento%20de%20função%20se"/>
          <p:cNvPicPr/>
          <p:nvPr/>
        </p:nvPicPr>
        <p:blipFill>
          <a:blip r:embed="rId1"/>
          <a:stretch/>
        </p:blipFill>
        <p:spPr>
          <a:xfrm>
            <a:off x="2300400" y="3427560"/>
            <a:ext cx="5008320" cy="28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3267000" y="630756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0 Caixa de diálogo da função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30160" y="1882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inserir a função SE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4-09-26T12:23:38Z</dcterms:created>
  <dc:creator>Uilliam</dc:creator>
  <dc:description/>
  <dc:language>en-US</dc:language>
  <cp:lastModifiedBy>Marcus Ramos</cp:lastModifiedBy>
  <dcterms:modified xsi:type="dcterms:W3CDTF">2009-05-04T14:17:45Z</dcterms:modified>
  <cp:revision>442</cp:revision>
  <dc:subject/>
  <dc:title>WORD XP</dc:title>
</cp:coreProperties>
</file>