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38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23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39.png" ContentType="image/png"/>
  <Override PartName="/ppt/media/image22.jpeg" ContentType="image/jpeg"/>
  <Override PartName="/ppt/media/image33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2.jpeg" ContentType="image/jpeg"/>
  <Override PartName="/ppt/media/image37.png" ContentType="image/png"/>
  <Override PartName="/ppt/media/image7.png" ContentType="image/png"/>
  <Override PartName="/ppt/media/image34.jpeg" ContentType="image/jpeg"/>
  <Override PartName="/ppt/media/image36.png" ContentType="image/png"/>
  <Override PartName="/ppt/media/image8.png" ContentType="image/png"/>
  <Override PartName="/ppt/media/image14.jpeg" ContentType="image/jpeg"/>
  <Override PartName="/ppt/media/image25.png" ContentType="image/png"/>
  <Override PartName="/ppt/media/image1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1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C92-9AEA-4D48-A054-CCA0C48B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2D4B-087C-4E03-93C1-3808F705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D04-5149-46AA-B76F-DE0CA750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3157-B93D-4379-8BA1-DDB95032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BFCB-AC12-4862-B637-8380E86C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2C1-BF73-4F69-BDFD-82A2A7A4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3D0-986D-4E81-A1CE-D5F797D5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FA6C-C3AD-463F-B5FD-BFAAD5AC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CA5-F1AC-445D-A425-22F130D3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CB68-264B-416E-87FD-8764CA6C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DBA-EDC1-4DCA-850B-34731ED8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DE8-8E36-4C03-990B-3D0967DA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A708-68E0-497F-BEBE-5A2DF4189504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F04C-A229-44C3-BA56-912229CBB5B3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468360" y="117360"/>
            <a:ext cx="2654280" cy="12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7200" bIns="228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Fórmulas e Funçõ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95280" y="9075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Neste capítulo veremos como se trabalha com fórmulas e funções que são as ferramentas que mais nos ajudam nos cálculos repetitiv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01760" y="1483920"/>
            <a:ext cx="323640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Operadores matemát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95280" y="1988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Excel usa algumas convenções da Informática e da Matemática para escrever fórmulas. Os símbolos usados nas operações básicas sã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-789120" y="2506680"/>
            <a:ext cx="68706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Aritmétic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ão usados para as operações aritméticas bás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68360" y="3357720"/>
          <a:ext cx="7848720" cy="2743200"/>
        </p:xfrm>
        <a:graphic>
          <a:graphicData uri="http://schemas.openxmlformats.org/drawingml/2006/table">
            <a:tbl>
              <a:tblPr/>
              <a:tblGrid>
                <a:gridCol w="1170000"/>
                <a:gridCol w="1936800"/>
                <a:gridCol w="1501560"/>
                <a:gridCol w="1606680"/>
                <a:gridCol w="1633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er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gite na célu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 o Excel exib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al de ma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i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2+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al de me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r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3-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teris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ultiplic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2*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rra 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vis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4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^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ento Circunflex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tenci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2^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EAD0-2C8E-46C8-BDAF-CD5BD8C75E00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Notas%20bimestrais%202"/>
          <p:cNvPicPr/>
          <p:nvPr/>
        </p:nvPicPr>
        <p:blipFill>
          <a:blip r:embed="rId1"/>
          <a:stretch/>
        </p:blipFill>
        <p:spPr>
          <a:xfrm>
            <a:off x="1763640" y="333360"/>
            <a:ext cx="5616720" cy="2297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3021480" y="2594520"/>
            <a:ext cx="29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21 Planilha Notas bimestrai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49440" y="2977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epita a operação para as outras células. Se você não quiser ter muito trabalho dê uma olhada no assunto que vem a seguir: cópia de fórmulas. Não esqueça de formatar as células novas e de salvar as alterações na planilh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40800" y="4005000"/>
            <a:ext cx="501336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Uso de dois pontos e de ponto e vírgu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-541440" y="4365720"/>
            <a:ext cx="29656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Dois pontos (: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611280" y="48434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dois pontos é usado nas fórmulas para definir um intervalo de células. Nós já o usamos na função SOMA e na função MÉDIA. Veja os exemplo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=SOMA(A3:A10)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=MÉDIA(A3:A1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3:A10 pode ser lido como intervalo de células entre A3 e A10, ou seja, estão incluídas no intervalo as células A3, A4, A5, A6, A7, A8, A9 e A1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BFAB-B267-4F72-9A50-7094696C822F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-396720" y="774000"/>
            <a:ext cx="87138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Ponto e vírgula (;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ponto é vírgula é usado nas fórmulas para separar dados e intervalos. Vamos exemplificar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=SOMA(A3:A6;A8:A1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Lemos a fórmula assim: Soma dos valores dos intervalos de A3 até A6 e de A8 até A10. Ou seja, será feita a soma dos valores de A3, A4, A5, A6 e também de A8, A9 e A1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55640" y="2950920"/>
            <a:ext cx="249876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Copiando fórmu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755640" y="348948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amos partir de um exemplo: o da plani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Notas bimestrai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Nós digitamos a fórmula para o cálculo da média de Português: =MÉDIA(B4:E4). Temos que digitar as fórmulas das médias de Matemática, História, Geografia, etc. As fórmulas são quase iguais. Neste caso podemos usar a cópia de fórmul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copiar uma fórmula faça assi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057400" y="5524560"/>
            <a:ext cx="57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se também os botões Copiar e Colar da barra padr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Botão Copiar"/>
          <p:cNvPicPr/>
          <p:nvPr/>
        </p:nvPicPr>
        <p:blipFill>
          <a:blip r:embed="rId1"/>
          <a:stretch/>
        </p:blipFill>
        <p:spPr>
          <a:xfrm>
            <a:off x="826920" y="5445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Botão Colar"/>
          <p:cNvPicPr/>
          <p:nvPr/>
        </p:nvPicPr>
        <p:blipFill>
          <a:blip r:embed="rId2"/>
          <a:stretch/>
        </p:blipFill>
        <p:spPr>
          <a:xfrm>
            <a:off x="1476360" y="5424480"/>
            <a:ext cx="64764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B5A8-0E55-4B91-BD5E-E3D71D449172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762120" y="549360"/>
            <a:ext cx="658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a célula que será copiad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Edit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opi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a célula para onde a fórmula será copiad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Edit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ol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epita a operação 4 para colar a fórmula em outras célul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essione ENTER para encerra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55640" y="248688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: as cópias de fórmulas geralmente não são idênticas à original. O Excel adapta a fórmula mudando o endereço das células. Veja o exempl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célula F4 temos a fórmula =MÉDIA(B4:E4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 copiarmos a fórmula em F4 para outras células o resultado será o seguint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ópia em F5: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=MÉDIA(B5:E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ópia em F6: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=MÉDIA(B6:E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ópia em F7: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=MÉDIA(B7:E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-396720" y="4897800"/>
            <a:ext cx="885636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ópia por arras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utra forma de copiar fórmulas e valores para células próximas e por arraste. Faça assi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1448-1299-44DE-91EC-507B3FD7774B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684360" y="26064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a célula que será copiad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ponte na alça que existe no canto inferior direito da célula. Repare que o ponteiro muda de forma quando apontamos para a alça da célul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rraste a alça para as células vizinhas, selecionando em quais você quer colar o conteúd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olte o botão do mouse. Pronto o conteúdo da célula foi copiado nas células vizinh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80040" y="2420640"/>
            <a:ext cx="377424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Referência absoluta e relat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84360" y="3060720"/>
            <a:ext cx="777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ós vimos que o Excel adapta as fórmulas quando nós as copiamos para outras células. Por exemplo: Na célula C2 escrevemos a fórmula =B2*B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 copiarmos esta fórmula para a célula C3 o resultado será: =B3*B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sta adaptação das fórmulas copiadas nem sempre é interessante. Vamos dar um exemplo onde ocorrem problem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5" descr="Cotação%20em%20dólar%202"/>
          <p:cNvPicPr/>
          <p:nvPr/>
        </p:nvPicPr>
        <p:blipFill>
          <a:blip r:embed="rId1"/>
          <a:stretch/>
        </p:blipFill>
        <p:spPr>
          <a:xfrm>
            <a:off x="828720" y="4579920"/>
            <a:ext cx="525600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2050920" y="645228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22 Planilha de preç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36CF-45A0-479D-AF00-C5CE5921A1A4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755640" y="62064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calcular o preço em reais poderíamos digitar na célula C2 a fórmula =B2*B8. O problema acontece se tentarmos copiar esta fórmula para as outras células. Copiando para a célula C3 o resultado será =B3*B9. Como não há cotação de dólar em B9 a tabela sairá com err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um caso desses é melhor escrever $B$8 em vez de B8. O símbolo cifrão faz com que a identificação da célula não se altere se movermos ou copiarmos a fórmul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55640" y="26330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B8 é uma referência relativa.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$B$8 é uma referência absolut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55280" y="2565000"/>
            <a:ext cx="1213920" cy="12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7200" bIns="228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Gráf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719280" y="3357720"/>
            <a:ext cx="77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om os dados do Excel podemos criar gráficos para apresentar melhor a informação. Neste capítulo veremos como criar, formatar e editar gráfic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m o Excel criamos gráficos dos mais variados tipos. Os gráficos melhoram a visualização dos dados. Muitas vezes, passando os olhos num gráfico o leitor consegue tirar uma conclusão instantaneamen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708840" y="4678200"/>
            <a:ext cx="408204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Etapas de criação de um gráf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0720" y="5229000"/>
            <a:ext cx="78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studaremos as etapas através de um exempl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XEMPLO: GRÁFICO DE EVOLUÇÃO DA POPULAÇ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criar gráficos no Excel o primeiro passo é digitar numa planilha os dados que servirão de base para a montagem do gráfi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121F-8BD5-41AD-A073-30E805DBE80E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Planilha População brasileira"/>
          <p:cNvPicPr/>
          <p:nvPr/>
        </p:nvPicPr>
        <p:blipFill>
          <a:blip r:embed="rId1"/>
          <a:stretch/>
        </p:blipFill>
        <p:spPr>
          <a:xfrm>
            <a:off x="684360" y="333360"/>
            <a:ext cx="2309760" cy="2808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3059280" y="1657800"/>
            <a:ext cx="38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23 Planilha Evolução da população brasileir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-611280" y="3205440"/>
            <a:ext cx="878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epois de digitar os dados podemos iniciar a criação do gráfico que é orientada pel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ssistente de gráfic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Etapa 1 Tipo do gráf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09480" y="4411800"/>
            <a:ext cx="756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Inseri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no comand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Gráfico..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urgirá 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ssistente de gráfic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o tipo de gráfico desejado. Escolheremos o tipo Colunas 3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vanç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481760" y="6000840"/>
            <a:ext cx="62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se também o botão Assistente de gráfico da barra padrã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6" descr="Botão Assistente de gráfico"/>
          <p:cNvPicPr/>
          <p:nvPr/>
        </p:nvPicPr>
        <p:blipFill>
          <a:blip r:embed="rId2"/>
          <a:stretch/>
        </p:blipFill>
        <p:spPr>
          <a:xfrm>
            <a:off x="722160" y="5877000"/>
            <a:ext cx="60984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B360-AF6C-4D77-826B-C2B0FFFEFF11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2" descr="Asssistente%20de%20gráfico%201"/>
          <p:cNvPicPr/>
          <p:nvPr/>
        </p:nvPicPr>
        <p:blipFill>
          <a:blip r:embed="rId1"/>
          <a:stretch/>
        </p:blipFill>
        <p:spPr>
          <a:xfrm>
            <a:off x="539640" y="549360"/>
            <a:ext cx="4168800" cy="3933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4859280" y="21942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24 Assistente de gráfico Etapa 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-757080" y="4437000"/>
            <a:ext cx="54720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Etapa 2 Intervalo e seqüê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95280" y="491652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gui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Intervalo,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m intervalo de dados, digite A5:B10. O intervalo também pode ser selecionado com o mouse. Clique em A5 e arraste até B1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gui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Seqüênci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xclua a primeira seqüência de dados, pois, ela se refere aos anos e não queremos que eles apareçam como barr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586E-88FD-46F6-8002-BE929363C4FA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39640" y="3459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3.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o campo nome da seqüência digite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pulaçã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. No campo valores digite B5:B10, que é o intervalo de valores de população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.No campo Rótulos do eixo digite A5:B5, que é o intervalo de valores de an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.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vanç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10" descr="Asssistente%20de%20gráfico%202"/>
          <p:cNvPicPr/>
          <p:nvPr/>
        </p:nvPicPr>
        <p:blipFill>
          <a:blip r:embed="rId1"/>
          <a:stretch/>
        </p:blipFill>
        <p:spPr>
          <a:xfrm>
            <a:off x="3132000" y="1989000"/>
            <a:ext cx="3956040" cy="43815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1"/>
          <p:cNvSpPr/>
          <p:nvPr/>
        </p:nvSpPr>
        <p:spPr>
          <a:xfrm>
            <a:off x="3433320" y="636336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25 Assistente de gráfico Etapa 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8B11-CAD0-426D-B3A9-77011FD4FAC2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-396720" y="189000"/>
            <a:ext cx="42220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Etapa 3 Opções de gráf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755640" y="76536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.Digite um título para o gráfico. Em nosso caso: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Evolução da população  brasileir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.Digite um título para o eixo horizontal. Em nosso exemplo: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n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3.Digite um título para o eixo vertical: Em nosso caso: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opulação em milhõe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3.Na gui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Legend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desmarque a opçã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ostrar legend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, pois no nosso caso é desnecessár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4.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vanç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Asssistente%20de%20gráfico%203"/>
          <p:cNvPicPr/>
          <p:nvPr/>
        </p:nvPicPr>
        <p:blipFill>
          <a:blip r:embed="rId1"/>
          <a:stretch/>
        </p:blipFill>
        <p:spPr>
          <a:xfrm>
            <a:off x="2340000" y="3141720"/>
            <a:ext cx="4859280" cy="3051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2914560" y="626652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26 Assistente de gráfico Etapa 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A6ED-8523-480F-8722-7F07D9914E18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-397080" y="476280"/>
            <a:ext cx="39949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Etapa 4 Local do gráf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755640" y="90792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sta última etapa é apenas para decidir se o gráfico vai ser um objeto dentro da planilha que contém os dados ou se vai ficar numa planilha em separad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scolha a opçã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omo objeto em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lan1 e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onclui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onto. Finalmente o gráfico aparec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Asssistente%20de%20gráfico%204"/>
          <p:cNvPicPr/>
          <p:nvPr/>
        </p:nvPicPr>
        <p:blipFill>
          <a:blip r:embed="rId1"/>
          <a:stretch/>
        </p:blipFill>
        <p:spPr>
          <a:xfrm>
            <a:off x="826920" y="3057480"/>
            <a:ext cx="5832720" cy="25322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2184120" y="558864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27 Assistente de gráfico Etapa 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5974-67D9-40EA-8084-22796EE52A3C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-536400" y="260280"/>
            <a:ext cx="63586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De comparaç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ão utilizados para fazer comparação de valor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55640" y="1052640"/>
          <a:ext cx="7704000" cy="2560680"/>
        </p:xfrm>
        <a:graphic>
          <a:graphicData uri="http://schemas.openxmlformats.org/drawingml/2006/table">
            <a:tbl>
              <a:tblPr/>
              <a:tblGrid>
                <a:gridCol w="1481040"/>
                <a:gridCol w="2911680"/>
                <a:gridCol w="2016000"/>
                <a:gridCol w="129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er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emp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al de igu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gual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1=A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al de maior 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ior 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1&gt;A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al de menor 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nor 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1&lt;A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al de maior ou igual 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ior ou igual 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1&gt;=A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al de menor ou igual 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nor ou igual 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1&lt;=A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al de difer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ferenç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1&lt;&gt;A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187"/>
          <p:cNvSpPr/>
          <p:nvPr/>
        </p:nvSpPr>
        <p:spPr>
          <a:xfrm>
            <a:off x="649440" y="3390840"/>
            <a:ext cx="346860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Escrita correta de fórmu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188"/>
          <p:cNvSpPr/>
          <p:nvPr/>
        </p:nvSpPr>
        <p:spPr>
          <a:xfrm>
            <a:off x="542520" y="4004640"/>
            <a:ext cx="76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- Devemos seguir algumas regras para inserir fórmulas numa célul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189"/>
          <p:cNvSpPr/>
          <p:nvPr/>
        </p:nvSpPr>
        <p:spPr>
          <a:xfrm>
            <a:off x="640080" y="4365000"/>
            <a:ext cx="62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*Toda fórmula no Excel começa com o sinal de igual (=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190"/>
          <p:cNvSpPr/>
          <p:nvPr/>
        </p:nvSpPr>
        <p:spPr>
          <a:xfrm>
            <a:off x="-614520" y="4366440"/>
            <a:ext cx="929016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Ordem das operaçõ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Excel executa operações na mesma ordem usada pela Matemátic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imeiro potenciação e radiciação, depois multiplicação e divisão e por último adição e subtração. Esta ordem pode ser alterada pelo uso de parênteses. O que está dentro de parênteses é executado primeiro, como na Matemátic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1250-4046-4916-8A4D-F92A7E41DF20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2" descr="Gráfico%20população%20sem%20formatar"/>
          <p:cNvPicPr/>
          <p:nvPr/>
        </p:nvPicPr>
        <p:blipFill>
          <a:blip r:embed="rId1"/>
          <a:stretch/>
        </p:blipFill>
        <p:spPr>
          <a:xfrm>
            <a:off x="755640" y="620640"/>
            <a:ext cx="4608360" cy="27208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692640" y="3386520"/>
            <a:ext cx="42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28 Gráfico Evolução da população brasileir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83640" y="4535280"/>
            <a:ext cx="279576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Formatando o gráf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84360" y="5033520"/>
            <a:ext cx="77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epois de criar o gráfico sempre aparecem detalhes para ajustar. É hora de formatar o gráfico. O gráfico é composto por  vários elementos. Os principais sã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625E-9957-474B-9BE8-6E2EFCDD3F8E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6920" y="765000"/>
          <a:ext cx="7345440" cy="3108600"/>
        </p:xfrm>
        <a:graphic>
          <a:graphicData uri="http://schemas.openxmlformats.org/drawingml/2006/table">
            <a:tbl>
              <a:tblPr/>
              <a:tblGrid>
                <a:gridCol w="2217960"/>
                <a:gridCol w="5127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Área do gráf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 o quadro que contém todos os elementos do gráf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Área de plotag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 um quadro menor que contém todos os elementos menos o títu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are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ão planos que ficam atrás das barr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ix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 eixos aparecem os valores do gráf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Linhas de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ão linhas auxiliares que formam uma grade nas paredes e facilitam a leitura dos d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eqüências de d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ão as barras no gráfico de barr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Legen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legenda identifica as seqüências de d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92"/>
          <p:cNvSpPr/>
          <p:nvPr/>
        </p:nvSpPr>
        <p:spPr>
          <a:xfrm>
            <a:off x="684360" y="3952440"/>
            <a:ext cx="763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: Cada tipo de gráfico tem suas particularidades de formatação. O gráfico de barras é formatado diferente do gráfico tipo pizzas ou do tipo linh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94"/>
          <p:cNvSpPr/>
          <p:nvPr/>
        </p:nvSpPr>
        <p:spPr>
          <a:xfrm>
            <a:off x="-468360" y="4780440"/>
            <a:ext cx="8856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00"/>
                </a:solidFill>
                <a:latin typeface="Arial"/>
              </a:rPr>
              <a:t>Área do gráf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área do gráfico pode ser movida e redimensionada. Para mover a área, clique nela e arraste-a para uma nova posição. Para redimensionar selecione-a com o mouse e arraste uma das alças que aparecem em volta do quadr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8C67-AC40-4837-88A5-0FBF3D315E31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611280" y="47592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formatar a área do gráfico, clique nela e depois,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ormat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Área do gráfico selecionada..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erá possível definir a fonte, cor e padrão de fund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3" descr="Formatar%20área%20do%20gráfico"/>
          <p:cNvPicPr/>
          <p:nvPr/>
        </p:nvPicPr>
        <p:blipFill>
          <a:blip r:embed="rId1"/>
          <a:stretch/>
        </p:blipFill>
        <p:spPr>
          <a:xfrm>
            <a:off x="684360" y="1413000"/>
            <a:ext cx="4824360" cy="3646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577800" y="5036040"/>
            <a:ext cx="43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29 Caixa de diálogo Formatar área do gráfic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-611640" y="5373720"/>
            <a:ext cx="32680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00"/>
                </a:solidFill>
                <a:latin typeface="Arial"/>
              </a:rPr>
              <a:t>Área de plotage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39640" y="580500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área de plotagem é um quadro menor que contém todos os elementos do gráfico menos o título. Podemos movê-la e redimensioná-la. Basicamente o que podemos formatar nela é 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5DC0-A2C3-4F6A-AE88-307244BA631F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84360" y="620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drão de cores. Para fazer isso a selecione e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ormat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Área de plotagem selecionada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3" descr="Formatar%20área%20de%20plotagem"/>
          <p:cNvPicPr/>
          <p:nvPr/>
        </p:nvPicPr>
        <p:blipFill>
          <a:blip r:embed="rId1"/>
          <a:stretch/>
        </p:blipFill>
        <p:spPr>
          <a:xfrm>
            <a:off x="750960" y="1295280"/>
            <a:ext cx="4252680" cy="36464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670320" y="4897800"/>
            <a:ext cx="452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30 Caixa de diálogo Formatar área de plotage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-541440" y="5085000"/>
            <a:ext cx="8858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00"/>
                </a:solidFill>
                <a:latin typeface="Arial"/>
              </a:rPr>
              <a:t>Paredes do gráf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s paredes ficam atrás das barras e o que podemos formatar nelas é o padrão de cores. Clique na parede e depois,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ormat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aredes selecionadas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6A57-C5EB-4B2D-86A4-EB85E1111E72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-324000" y="412920"/>
            <a:ext cx="885672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x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Clique num dos eixos, horizontal ou vertical, e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Formatar</a:t>
            </a:r>
            <a:r>
              <a:rPr b="0" lang="pt-BR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ixo selecionado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Será possível formatar a fonte, o alinhamento do texto, a escala do eixo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2" descr="Formatar%20eixo"/>
          <p:cNvPicPr/>
          <p:nvPr/>
        </p:nvPicPr>
        <p:blipFill>
          <a:blip r:embed="rId1"/>
          <a:stretch/>
        </p:blipFill>
        <p:spPr>
          <a:xfrm>
            <a:off x="971640" y="1844640"/>
            <a:ext cx="4248000" cy="363852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889560" y="553932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31 Caixa de diálogo formatar eix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08D3-FCE8-45E5-805A-A4D471216C98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-324000" y="405000"/>
            <a:ext cx="874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Seqüência de dad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numa das barras do gráfico para formatar a seqüência de dados.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ormat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Seqüências de dados..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erá possível alterar a forma das barras, o padrão de cores, profundidade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3" descr="Formatar%20sequencia%20de%20dados"/>
          <p:cNvPicPr/>
          <p:nvPr/>
        </p:nvPicPr>
        <p:blipFill>
          <a:blip r:embed="rId1"/>
          <a:stretch/>
        </p:blipFill>
        <p:spPr>
          <a:xfrm>
            <a:off x="941400" y="1790640"/>
            <a:ext cx="4710240" cy="38703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4"/>
          <p:cNvSpPr/>
          <p:nvPr/>
        </p:nvSpPr>
        <p:spPr>
          <a:xfrm>
            <a:off x="884160" y="561852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32 Caixa de diálogo Formatar seqüências de dad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810C-D1E8-4A41-8165-3A1B78BE51CB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-468360" y="405360"/>
            <a:ext cx="885672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Linhas de gra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s linhas de grade dividem a parede do gráfico em faixas. Servem para auxiliar a leitura do gráfico. Para formatá-las clique numa linha de grade e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ormat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Linhas de grade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bserve a figura seguinte e compare com o gráfico antes da formatação. Veja como a formatação pode melhorar a aparência de um gráfi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3" descr="Gráfico Evolução da População brasileira formatado"/>
          <p:cNvPicPr/>
          <p:nvPr/>
        </p:nvPicPr>
        <p:blipFill>
          <a:blip r:embed="rId1"/>
          <a:stretch/>
        </p:blipFill>
        <p:spPr>
          <a:xfrm>
            <a:off x="2771640" y="2276640"/>
            <a:ext cx="4114800" cy="38271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2394000" y="6091920"/>
            <a:ext cx="509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33 Gráfico Evolução da população brasileira formatad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8938-BB3B-4909-832A-8E51782D9D39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755640" y="-360"/>
            <a:ext cx="241344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Editando o gráf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57080" y="43776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s vezes criamos e formatamos um gráfico e só mais tarde notamos que alguma informação precisa ser mudada. Com o Excel, a qualquer momento, podemos alterar valores, acrescentar dados, mudar o tipo do gráfico, trocar os título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684360" y="1628280"/>
            <a:ext cx="77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 um valor do gráfico precisa ser mudado, basta digitar o novo valor na planilha base do gráfico. Alterações feitas nos valores da planilha alteram imediatamente o gráfi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684360" y="2636640"/>
            <a:ext cx="77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modificar um gráfico, selecione a área do gráfico. Note que surge na barra de menus do Excel o it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Gráfic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Neste menu ficam os comandos de edição. Vejamos os comandos do menu Gráfic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826920" y="3600360"/>
          <a:ext cx="7490160" cy="2651040"/>
        </p:xfrm>
        <a:graphic>
          <a:graphicData uri="http://schemas.openxmlformats.org/drawingml/2006/table">
            <a:tbl>
              <a:tblPr/>
              <a:tblGrid>
                <a:gridCol w="1990800"/>
                <a:gridCol w="5499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po do gráf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 um clique de mouse alteramos o tipo do gráfico selecionad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dos de orig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 este comando podemos mudar os intervalos da planilha base que alimentam o gráfico com informaçõ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ções de gráf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 este comando alteramos os títulos, legenda, rótulos, etc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ra alterar o local onde o gráfico é inseri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feito 3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tera a aparência de gráficos tridimensionai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E0DD-3FEC-4B65-BC87-7A8CFD532ABD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2" descr="Exibição%203D"/>
          <p:cNvPicPr/>
          <p:nvPr/>
        </p:nvPicPr>
        <p:blipFill>
          <a:blip r:embed="rId1"/>
          <a:stretch/>
        </p:blipFill>
        <p:spPr>
          <a:xfrm>
            <a:off x="611280" y="549360"/>
            <a:ext cx="4681440" cy="31208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582120" y="3602520"/>
            <a:ext cx="33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34 Caixa de diálogo Exibição 3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38920" y="3789000"/>
            <a:ext cx="337356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Escolha do tipo do gráf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39640" y="442584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Um gráfico pode facilitar a interpretação de dados, mas é preciso escolher o tipo correto de gráfico para cada tipo de informação. Veja algumas dicas sobre escolha de gráfico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mostrar a evolução de valores ao longo do tempo prefira gráficos de barras ou de linhas. Por exemplo: o crescimento do número de usuários de computador ao longo dos an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5C5F-B92E-474D-8D43-2F4901E1346E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684360" y="333360"/>
            <a:ext cx="777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gráficos matemáticos contínuos prefira o tipo linhas suavizadas. Por exemplo: gráficos de equaçõ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mostrar a participação das partes num conjunto use gráfico tipo pizza. Por exemplo: gráficos com a porcentagem de cada grupo racial no total da população brasileir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647280" y="1412640"/>
            <a:ext cx="2556720" cy="12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7200" bIns="228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Gerenciando da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11280" y="21333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Neste capítulo veremos como gerenciar volumes grandes de informação classificando, filtrando, resumindo e analisando dad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amos exemplificar o gerenciamento de dados com os dados da planilha seguint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5" descr="Planilha preços de automóveis"/>
          <p:cNvPicPr/>
          <p:nvPr/>
        </p:nvPicPr>
        <p:blipFill>
          <a:blip r:embed="rId1"/>
          <a:stretch/>
        </p:blipFill>
        <p:spPr>
          <a:xfrm>
            <a:off x="1692360" y="3357720"/>
            <a:ext cx="5688000" cy="2985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2700360" y="6382080"/>
            <a:ext cx="45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35 Planilha Preços de automóvei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37C0-9C4E-4E98-BCED-27CB80AD3B77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-541440" y="45000"/>
            <a:ext cx="90010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Uso de parênte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Matemática as fórmulas podem ser representadas em duas dimensões. No Excel escrevemos as fórmulas colocando os caracteres em linha, usando parênteses sempre que for necessário para definir a ordem em que as operações serão executadas. Veja os exemplo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6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2"/>
              <p:cNvSpPr txBox="1"/>
              <p:nvPr/>
            </p:nvSpPr>
            <p:spPr>
              <a:xfrm>
                <a:off x="755640" y="2492280"/>
                <a:ext cx="27367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Rectangle 6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4"/>
              <p:cNvSpPr txBox="1"/>
              <p:nvPr/>
            </p:nvSpPr>
            <p:spPr>
              <a:xfrm>
                <a:off x="826920" y="3139920"/>
                <a:ext cx="26276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B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Rectangle 6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6"/>
              <p:cNvSpPr txBox="1"/>
              <p:nvPr/>
            </p:nvSpPr>
            <p:spPr>
              <a:xfrm>
                <a:off x="900000" y="3789360"/>
                <a:ext cx="26640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Rectangle 73"/>
          <p:cNvSpPr/>
          <p:nvPr/>
        </p:nvSpPr>
        <p:spPr>
          <a:xfrm>
            <a:off x="0" y="253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Rectangle 76"/>
          <p:cNvSpPr/>
          <p:nvPr/>
        </p:nvSpPr>
        <p:spPr>
          <a:xfrm>
            <a:off x="0" y="253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Rectangle 79"/>
          <p:cNvSpPr/>
          <p:nvPr/>
        </p:nvSpPr>
        <p:spPr>
          <a:xfrm>
            <a:off x="0" y="253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908000" y="1700280"/>
          <a:ext cx="5400720" cy="2917800"/>
        </p:xfrm>
        <a:graphic>
          <a:graphicData uri="http://schemas.openxmlformats.org/drawingml/2006/table">
            <a:tbl>
              <a:tblPr/>
              <a:tblGrid>
                <a:gridCol w="2935440"/>
                <a:gridCol w="2465280"/>
              </a:tblGrid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ra calcular a fórmula 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gite no Excel 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A1/A2+(A3-A4)/A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(B2-B3)*B4/(B5-B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1-C1/C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Rectangle 133"/>
          <p:cNvSpPr/>
          <p:nvPr/>
        </p:nvSpPr>
        <p:spPr>
          <a:xfrm>
            <a:off x="609480" y="4581360"/>
            <a:ext cx="412344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Inserindo funções numa fórmu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Rectangle 134"/>
          <p:cNvSpPr/>
          <p:nvPr/>
        </p:nvSpPr>
        <p:spPr>
          <a:xfrm>
            <a:off x="611280" y="5059440"/>
            <a:ext cx="77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unções são comandos do Excel que executam operações repetitivas ou complexas. Vamos exemplificar. Na plani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Notas bimestrai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fizemos alguns cálculos de média. A média anual de cada disciplina foi calculada somando as quatro notas bimestrais e dividindo o resultado por quatro. Na célula da média de Português digitamo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3CE3-9033-4B65-A927-AECDCAD77813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820080" y="620640"/>
            <a:ext cx="180828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Classificaç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826920" y="124920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Excel não é preciso se preocupar com a ordem que digitamos listas de dados. O Excel tem a ferramenta de classificação para nos ajuda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amos classificar a plani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reços de automóvei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da seguinte maneira: vamos organizar os carros por marca e por preço, começando pelo carro mais caro de cada marca. Faça assi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826920" y="282312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o intervalo de dados dos preços (A3:D2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lassificar..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urgirá a caixa de diálog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lassific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camp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lassificar po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elecione a colun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arc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ordem crescente. Deste modo o Excel vai reorganizar as linhas para que os carros da mesma marca fiquem junt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camp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Em seguida po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elecione a colun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reç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ordem decrescente. Deste modo, depois de organizar por marca o Excel vai organizar pelo preço, começando pelo maio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ACD8-575D-4E47-821F-18EA6EBBA422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2" descr="Classificar"/>
          <p:cNvPicPr/>
          <p:nvPr/>
        </p:nvPicPr>
        <p:blipFill>
          <a:blip r:embed="rId1"/>
          <a:stretch/>
        </p:blipFill>
        <p:spPr>
          <a:xfrm>
            <a:off x="826920" y="260280"/>
            <a:ext cx="3457800" cy="2754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"/>
          <p:cNvSpPr/>
          <p:nvPr/>
        </p:nvSpPr>
        <p:spPr>
          <a:xfrm>
            <a:off x="4284720" y="11718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36 Caixa de diálogo Classifica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Planilha preços de automóveis classificada"/>
          <p:cNvPicPr/>
          <p:nvPr/>
        </p:nvPicPr>
        <p:blipFill>
          <a:blip r:embed="rId2"/>
          <a:stretch/>
        </p:blipFill>
        <p:spPr>
          <a:xfrm>
            <a:off x="826920" y="3141720"/>
            <a:ext cx="5400720" cy="36147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6300720" y="4517640"/>
            <a:ext cx="1366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37 Planilha Preços de automóveis classificad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FADD-2E10-4615-8BD9-33B599AFA59C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755640" y="188640"/>
            <a:ext cx="180036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Filtrag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755640" y="68112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ferramenta de filtragem é boa para selecionar dados numa lista grande. Filtrar é exibir dados que atendem uma certa condição e ocultar os dema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amos filtrar a plani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reços de automóvei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da seguinte maneira: Vamos exibir apenas as linhas dos carros da categoria Sedan. Faça assi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755640" y="23936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o intervalo de dados (A3:D2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iltr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utoFiltr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Surgirão botões ao lado de cada título de colu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no botão do títul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ategori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selecione a opçã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Sedan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762120" y="3583800"/>
            <a:ext cx="60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onto o Excel exibirá apenas as linhas dos carros Seda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6" descr="Planilha preços de automóveis filtrada 1"/>
          <p:cNvPicPr/>
          <p:nvPr/>
        </p:nvPicPr>
        <p:blipFill>
          <a:blip r:embed="rId1"/>
          <a:stretch/>
        </p:blipFill>
        <p:spPr>
          <a:xfrm>
            <a:off x="1835280" y="4221000"/>
            <a:ext cx="5832360" cy="20955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2599920" y="6380640"/>
            <a:ext cx="40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38  Planilha Preços de automóveis filtrad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321F-4812-48BC-8EC6-A9E4DCFC116D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720720" y="47592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exibir as linhas ocultas pela filtragem clique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,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iltr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na opçã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ostrar tud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amos fazer mais uma filtragem de modo diferente. Vamos exibir apenas os carros que custam menos de R$ 20.000,00. Faça assi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730080" y="1700280"/>
            <a:ext cx="751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no botão da colun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reç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scolha a opçã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ersonalizar..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urgirá a caixa de diálog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ersonalizar AutoFiltr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primeiro campo selecione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é menor do que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no segundo campo digite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20.000,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4" descr="Personalizar%20autofiltro"/>
          <p:cNvPicPr/>
          <p:nvPr/>
        </p:nvPicPr>
        <p:blipFill>
          <a:blip r:embed="rId1"/>
          <a:stretch/>
        </p:blipFill>
        <p:spPr>
          <a:xfrm>
            <a:off x="2411280" y="3500280"/>
            <a:ext cx="4967280" cy="2881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>
            <a:off x="2791440" y="6410880"/>
            <a:ext cx="41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39 Caixa de diálogo Personalizar AutoFiltr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A7B5-5FE0-4F12-95BA-4D22480F07ED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2" descr="Planilha preços de automóveis filtrada 2"/>
          <p:cNvPicPr/>
          <p:nvPr/>
        </p:nvPicPr>
        <p:blipFill>
          <a:blip r:embed="rId1"/>
          <a:stretch/>
        </p:blipFill>
        <p:spPr>
          <a:xfrm>
            <a:off x="2050920" y="260280"/>
            <a:ext cx="5400720" cy="29815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2353680" y="317088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40 Planilha Preços de automóveis filtrada por preç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84360" y="3428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remover um filtro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,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iltrar..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desmarque a opçã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utoFiltr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684720" y="411156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Formulár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611280" y="443880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Quando temos dados para digitar em listas grandes, podemos recorrer à ajuda dos formulários do Excel. Digitar dados num formulário muitas vezes é mais prático que digitá-los diretamente na list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ntes de trabalhar com formulários vamos entender os termos usados. Um formulário é uma caixa de diálogo com vários campos. Cada campo representa uma coluna da lista. O conjunto de todos os dados de uma linha da tabela compõe um registro. Agora vamos exemplifica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DD27-CDC1-46EC-A208-EA735DCAB7DE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828720" y="476280"/>
          <a:ext cx="7343640" cy="639720"/>
        </p:xfrm>
        <a:graphic>
          <a:graphicData uri="http://schemas.openxmlformats.org/drawingml/2006/table">
            <a:tbl>
              <a:tblPr/>
              <a:tblGrid>
                <a:gridCol w="7343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Os textos da primeira linha da tabela são usados como rótulo dos campos do formulári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Rectangle 14"/>
          <p:cNvSpPr/>
          <p:nvPr/>
        </p:nvSpPr>
        <p:spPr>
          <a:xfrm>
            <a:off x="826920" y="105264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em alguma célula da lista de preços da plani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reços de automóve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ormulári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Surgirá um formulário na tel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incluir um registro no formulário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Nov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e os dados nos campos do formulário. Para passar de um campo a outro use a tecla TAB. No final da digitação tecle ENTER. Os registros novos serão incluídos no final da list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epois de digitar os novos registros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ech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Picture 15" descr="Formulário"/>
          <p:cNvPicPr/>
          <p:nvPr/>
        </p:nvPicPr>
        <p:blipFill>
          <a:blip r:embed="rId1"/>
          <a:stretch/>
        </p:blipFill>
        <p:spPr>
          <a:xfrm>
            <a:off x="2557440" y="3429000"/>
            <a:ext cx="4535640" cy="30099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6"/>
          <p:cNvSpPr/>
          <p:nvPr/>
        </p:nvSpPr>
        <p:spPr>
          <a:xfrm>
            <a:off x="3749400" y="6452280"/>
            <a:ext cx="183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41 Formulár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1E76-B367-4412-BB06-14987045EC83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709920" y="549000"/>
            <a:ext cx="134064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Subtota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684360" y="1052280"/>
            <a:ext cx="77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comando subtotais permite obter várias informações de uma lista de dados. Vamos partir da plani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reços de automóvei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Com o comando subtotais podemos obter informações como as seguint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688680" y="1950840"/>
            <a:ext cx="570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aber quantos carros de cada marca estão na tabel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aber o preço médio dos carros de cada categor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aber o preço máximo dos carros de cada marc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aber o preço mínimo dos carros em cada categoria.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84360" y="31474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amos usar os subtotais para saber qual é o preço médio dos carros em cada categoria. Faça assi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84360" y="3789720"/>
            <a:ext cx="77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os dados da tabela e classifique-a primeiro por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ategori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depois por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reç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decrescente. Caso não se lembre como fazer isso volte atrás no it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lassificaçã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desta apostil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Subtotais..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urgirá a caixa de diálog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Subtota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camp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 cada alteraçã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em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ategori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camp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Usar funçã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édi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1EBF-CD7D-4AD4-A1F9-61814CA485A3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829440" y="619920"/>
            <a:ext cx="45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onto. O Excel cria os subtotais para nós.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Picture 3" descr="Planilha preços de automóveis com subtotais"/>
          <p:cNvPicPr/>
          <p:nvPr/>
        </p:nvPicPr>
        <p:blipFill>
          <a:blip r:embed="rId1"/>
          <a:stretch/>
        </p:blipFill>
        <p:spPr>
          <a:xfrm>
            <a:off x="892080" y="1052640"/>
            <a:ext cx="4327560" cy="45831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4"/>
          <p:cNvSpPr/>
          <p:nvPr/>
        </p:nvSpPr>
        <p:spPr>
          <a:xfrm>
            <a:off x="811800" y="5618520"/>
            <a:ext cx="458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42 Planilha Preços de automóveis com subtotai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826920" y="5897160"/>
            <a:ext cx="74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cancelar a exibição de subtotais clique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no comand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Subtotai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Na caixa de diálogo, clique no botã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Remover to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C4D0-6075-4CE5-8596-9C7DB142A222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721080" y="620640"/>
            <a:ext cx="255528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Validação de da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84360" y="119772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validação é um mecanismo que permite controlar a digitação de dados. Podemos definir que alguns valores não serão aceitos numa célula. Vamos a um exempl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Uma empresa atacadista de equipamentos de Informática tira seus pedidos de compra no Excel. No pedido de compra há uma tabela com as seguintes colunas: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Quantidade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rodut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reç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unitári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reç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Vamos criar uma validação de dados nas células da quantidade. Queremos que sejam aceitos apenas números inteiros maiores que 3. Isso porque 3 é o pedido mínimo aceito pela empresa e inteiros porque não dá para cortar os equipamentos e vender em pedacinh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4" descr="Pedido%20de%20compra"/>
          <p:cNvPicPr/>
          <p:nvPr/>
        </p:nvPicPr>
        <p:blipFill>
          <a:blip r:embed="rId1"/>
          <a:stretch/>
        </p:blipFill>
        <p:spPr>
          <a:xfrm>
            <a:off x="755640" y="4076640"/>
            <a:ext cx="6408720" cy="2160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5"/>
          <p:cNvSpPr/>
          <p:nvPr/>
        </p:nvSpPr>
        <p:spPr>
          <a:xfrm>
            <a:off x="676800" y="626652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43 Planilha Pedido de compr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0B5C-253A-4963-8A92-DA8118972641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832320" y="475560"/>
            <a:ext cx="49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criar uma validação de dados faça assi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826920" y="765720"/>
            <a:ext cx="741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as células do item quantidade (A4:A7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Validação..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urgirá a caixa de diálog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Validação de dad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camp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Permiti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Número inteir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camp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aior do que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camp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ínim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digite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gui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ensagem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de entrada digite 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títul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Quantidade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ensagem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ínimo 3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gui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lerta de err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digite 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títul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Quantidade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ensagem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 quantidade mínima é 03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Picture 4" descr="Validação%20de%20dados"/>
          <p:cNvPicPr/>
          <p:nvPr/>
        </p:nvPicPr>
        <p:blipFill>
          <a:blip r:embed="rId1"/>
          <a:stretch/>
        </p:blipFill>
        <p:spPr>
          <a:xfrm>
            <a:off x="2770200" y="3933720"/>
            <a:ext cx="4465800" cy="24465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2986920" y="6380640"/>
            <a:ext cx="390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44 Caixa de diálogo validação de dad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056D-CB99-4361-AA88-FA7E3A4EC09E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755640" y="549360"/>
            <a:ext cx="77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=(B4+C4+D4+E4)/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ão deu muito trabalho porque havia poucos números envolvidos. Mas imagine usar este método para tirar a média de uma lista com centenas de valores. Neste caso devemos apelar para a função média. Vamos obter o mesmo resultado para a média de Português se digitarmo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=MÉDIA(B4:E4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755640" y="2404080"/>
            <a:ext cx="777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fórmula acima pode ser lida assim: Média dos valores contidos no intervalo de células que vai de B4 até E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Bem, agora que sabemos que existem funções no Excel para facilitar nossa vida. Resta saber quais são estas funções e como escrevê-las corretamente numa fórmula. O Excel tem muitas funções, cada uma com suas particularidades. É melhor começar pelas mais usadas para depois, aos poucos, ir conhecendo as demais funçõ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ada função tem um modo correto para ser escrita. É o que chamamos em Informática de sintaxe do comando. Só os comandos escritos na sintaxe correta serão executados. Vamos agora passar ao estudo das funções mais usadas: SOMA, MÉDIA e S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422A-25A9-4D11-BF47-4B4875B7D0FC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684360" y="4759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onto. O Excel não aceitará qualquer valor na coluna das quantidades. Quando o usuário selecionar uma célula receberá uma mensagem de entrada. Se o usuário tentar digitar um valor inválido será avisado por uma caixa de alert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Picture 3" descr="Pedido%20de%20compra%202"/>
          <p:cNvPicPr/>
          <p:nvPr/>
        </p:nvPicPr>
        <p:blipFill>
          <a:blip r:embed="rId1"/>
          <a:stretch/>
        </p:blipFill>
        <p:spPr>
          <a:xfrm>
            <a:off x="755640" y="1628640"/>
            <a:ext cx="4848120" cy="21592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676440" y="3745440"/>
            <a:ext cx="276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45 Mensagem de entrad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5" descr="Quantidade%20de%20validação"/>
          <p:cNvPicPr/>
          <p:nvPr/>
        </p:nvPicPr>
        <p:blipFill>
          <a:blip r:embed="rId2"/>
          <a:stretch/>
        </p:blipFill>
        <p:spPr>
          <a:xfrm>
            <a:off x="755640" y="4076640"/>
            <a:ext cx="2222640" cy="15130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677160" y="5545800"/>
            <a:ext cx="25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46 Alerta de validaçã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682560" y="582588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remover uma validação, primeiro selecione as células. Em seguida clique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esco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Validação..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Na caixa de diálogo clique no botã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Limpar tud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C6A1-438E-4F19-AA43-E810038FD54D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909720" y="549000"/>
            <a:ext cx="265572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Estrutura de tóp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900000" y="105228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estrutura de tópicos organiza os dados em níveis. Deste modo, podemos exibir todos os detalhes de uma planilha ou selecionar apenas os dados mais gerais. Vamos exemplificar através da plani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Relatório de venda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Picture 4" descr="Planilha Relatório de vendas"/>
          <p:cNvPicPr/>
          <p:nvPr/>
        </p:nvPicPr>
        <p:blipFill>
          <a:blip r:embed="rId1"/>
          <a:stretch/>
        </p:blipFill>
        <p:spPr>
          <a:xfrm>
            <a:off x="981000" y="2276640"/>
            <a:ext cx="4454640" cy="41148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5"/>
          <p:cNvSpPr/>
          <p:nvPr/>
        </p:nvSpPr>
        <p:spPr>
          <a:xfrm>
            <a:off x="882720" y="6404400"/>
            <a:ext cx="51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47 Planilha Relatório de vendas estruturada em tópic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91FC-F70E-4F89-BB69-19D491D243A5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682560" y="49644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esta planilha temos três opções de exibição: Podemos mostrar todos os dados, ou apenas os resultados por região, ou só o resultado geral do paí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Picture 3" descr="Planilha Relatório de vendas com  tópicos recolhidos"/>
          <p:cNvPicPr/>
          <p:nvPr/>
        </p:nvPicPr>
        <p:blipFill>
          <a:blip r:embed="rId1"/>
          <a:stretch/>
        </p:blipFill>
        <p:spPr>
          <a:xfrm>
            <a:off x="755640" y="1484280"/>
            <a:ext cx="4444920" cy="21589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639360" y="3602520"/>
            <a:ext cx="624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48 Planilha Relatório de vendas  com tópicos recolhidos parcialm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Picture 5" descr="Planilha Relatório de vendas com  tópicos totalmente recolhidos"/>
          <p:cNvPicPr/>
          <p:nvPr/>
        </p:nvPicPr>
        <p:blipFill>
          <a:blip r:embed="rId2"/>
          <a:stretch/>
        </p:blipFill>
        <p:spPr>
          <a:xfrm>
            <a:off x="755640" y="4149720"/>
            <a:ext cx="4444920" cy="1224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6"/>
          <p:cNvSpPr/>
          <p:nvPr/>
        </p:nvSpPr>
        <p:spPr>
          <a:xfrm>
            <a:off x="657360" y="5402880"/>
            <a:ext cx="600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49 Planilha Relatório de vendas com tópicos totalmente recolhid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684360" y="56811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azemos as mudanças no modo de exibição clicando nos botões + e – do lado esquerdo da planilha. São os botões da estrutura de tópicos. O botão + expande a exibição. O botão – recolhe a exibiçã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2F2E-E27B-44D8-B461-E04CB07EFBAA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933480" y="613800"/>
            <a:ext cx="65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criar uma estrutura de tópicos na planilha faça o seguin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900000" y="118872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os dados da planilha que serão estruturado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Organizar estrutura de tópic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Em seguida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utoTópic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900000" y="2103840"/>
            <a:ext cx="741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onto. O Excel criará a estrutura de tópicos. Este método simples só funciona para algumas planilhas como a que usamos no exemplo. A criação automática só dá certo quando o Excel encontra a planilha preparada. A inclusão de células com a função SOMA ajuda a estruturação em tópic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 o comando AutoTópicos não funcionar você pode criar a estrutura manualmente. É simples. Você só tem que agrupar as linhas para criar as chaves da estrutura de tópic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agrupar as linhas da região Centro Oeste, por exemplo, faça assi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900000" y="500220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as linhas 5,6 e 7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Dad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,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Organizar estrutura de tópico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no comand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grup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epita a mesma operação para agrupar as demais regiões. Para criar a chave geral selecione as linhas  de 4 a 20 e aplique o comando Agrupa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4850-0211-4A64-ABC4-8669A3289930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2" descr="Menu%20tópicos"/>
          <p:cNvPicPr/>
          <p:nvPr/>
        </p:nvPicPr>
        <p:blipFill>
          <a:blip r:embed="rId1"/>
          <a:stretch/>
        </p:blipFill>
        <p:spPr>
          <a:xfrm>
            <a:off x="719280" y="231840"/>
            <a:ext cx="2700360" cy="226044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3"/>
          <p:cNvSpPr/>
          <p:nvPr/>
        </p:nvSpPr>
        <p:spPr>
          <a:xfrm>
            <a:off x="3492360" y="866880"/>
            <a:ext cx="115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50 Menu Tópic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610920" y="2420640"/>
            <a:ext cx="244224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Tabelas dinâm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611280" y="2852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s tabelas dinâmicas são ótimas para analisar dados de grandes listas. Vamos exemplificar. Veja a plani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ontrole diário de venda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2" name="Picture 6" descr="Planilha controle diário de vendas"/>
          <p:cNvPicPr/>
          <p:nvPr/>
        </p:nvPicPr>
        <p:blipFill>
          <a:blip r:embed="rId2"/>
          <a:stretch/>
        </p:blipFill>
        <p:spPr>
          <a:xfrm>
            <a:off x="684360" y="3500280"/>
            <a:ext cx="4248000" cy="32115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7"/>
          <p:cNvSpPr/>
          <p:nvPr/>
        </p:nvSpPr>
        <p:spPr>
          <a:xfrm>
            <a:off x="5292720" y="4658040"/>
            <a:ext cx="165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5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Planilha Controle diário de vend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D4EB-AEAA-4F9D-AA99-8ABDA9776C8D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13080" y="333000"/>
            <a:ext cx="87264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So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11280" y="82548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 função SOMA é ótima para fazer a soma do conteúdo de várias células. Veja no exemplo seguinte a sintaxe da funçã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=SOMA(A3:A1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Podemos ler a fórmula assim: Soma dos valores do intervalo que vai da célula A3 até a célula A1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925560" y="2576520"/>
            <a:ext cx="15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3" descr="Botão AutoSoma"/>
          <p:cNvPicPr/>
          <p:nvPr/>
        </p:nvPicPr>
        <p:blipFill>
          <a:blip r:embed="rId1"/>
          <a:stretch/>
        </p:blipFill>
        <p:spPr>
          <a:xfrm>
            <a:off x="684360" y="2276640"/>
            <a:ext cx="64764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925560" y="3490920"/>
          <a:ext cx="1508040" cy="517680"/>
        </p:xfrm>
        <a:graphic>
          <a:graphicData uri="http://schemas.openxmlformats.org/drawingml/2006/table">
            <a:tbl>
              <a:tblPr/>
              <a:tblGrid>
                <a:gridCol w="1508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Rectangle 16"/>
          <p:cNvSpPr/>
          <p:nvPr/>
        </p:nvSpPr>
        <p:spPr>
          <a:xfrm>
            <a:off x="1368360" y="220464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cê também pode inserir a função SOMA numa célula usando apenas cliques de mouse. Faça assi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611280" y="2980440"/>
            <a:ext cx="78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a célula onde será inserida a funçã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no botã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utoSom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da barra padrã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Excel seleciona automaticamente um intervalo de células próximo. Se você aceitar a sugestão conclua pressionando ENT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escolher um intervalo diferente clique na primeira célula e arraste o ponteiro até a última célula do intervalo desejado. As células selecionadas ficarão realçadas com uma moldura animada do tipo formigas marchand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essione ENT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Excel escreve a fórmula na célula selecionada baseado nas informações dadas com os cliques de mous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A684-7A69-4C36-8406-58BF0B6032F1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66560" y="404640"/>
            <a:ext cx="217404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Média aritmét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68360" y="90828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cálculo de média aritmética é feito pela função MËDIA. Esta função soma todos os valores de um intervalo e divide o resultado pelo número de células do interval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amos exemplificar a sintaxe da função média. Para calcular a média dos valores do intervalo entre a célula A3 até a célula A10 escrev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=MÉDIA(A3:A1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Uma forma prática de inserir funções é usar o comand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unçã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d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Inseri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Com ele não precisamos conhecer detalhes da sintaxe da função. Vamos exemplifica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68360" y="337608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a célula onde será inserida a funçã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Inseri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no comand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unção..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urgirá a caixa de diálog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Inserir funçã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68360" y="429228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3. Escolha a função desejada e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Por exemplo: a função estatística MÉDIA. Surgirá a caixa de diálogo da função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68360" y="501300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4. Digite as informações necessárias para definir a função. Por exemplo: a função MÉDIA pede o intervalo de células. Digite o intervalo no camp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Núm1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Será algo como A3:A1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5. Conclua co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A7E8-395A-4A35-B185-10ECD35C600A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2" descr="Insrir%20função"/>
          <p:cNvPicPr/>
          <p:nvPr/>
        </p:nvPicPr>
        <p:blipFill>
          <a:blip r:embed="rId1"/>
          <a:stretch/>
        </p:blipFill>
        <p:spPr>
          <a:xfrm>
            <a:off x="1260360" y="149400"/>
            <a:ext cx="6336000" cy="3135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2504880" y="3267720"/>
            <a:ext cx="34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18 Caixa de diálogo Inserir funçã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Argumento%20de%20função"/>
          <p:cNvPicPr/>
          <p:nvPr/>
        </p:nvPicPr>
        <p:blipFill>
          <a:blip r:embed="rId2"/>
          <a:stretch/>
        </p:blipFill>
        <p:spPr>
          <a:xfrm>
            <a:off x="1332000" y="3789360"/>
            <a:ext cx="6262560" cy="26035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2907720" y="6380640"/>
            <a:ext cx="264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19 Assistente de funçã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238D-A533-47F1-B4A7-F013FB2EC70C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613440" y="333000"/>
            <a:ext cx="149436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Função 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636120" y="829440"/>
            <a:ext cx="73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função SE é do tipo lógica. Vamos estudá-la através de um exempl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-531360" y="1196280"/>
            <a:ext cx="51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XEMPLO: USANDO A FUNÇÃO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684360" y="148392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bra a planilh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Notas Bimestrai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crie mais uma coluna na tabela, ao lado da média anual, com o títul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84360" y="2133720"/>
            <a:ext cx="73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amos que a média para aprovação seja 7,0. O Excel escreverá a palavr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PROVAD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na colun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e média for maior ou igual a 7,0 e a palavr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EXAME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e a nota for inferior a 7,0. Faremos isso com a função S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função SE envolve três informações, também chamadas argumentos. Vejamos quais sã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68360" y="4094280"/>
          <a:ext cx="4997520" cy="1927080"/>
        </p:xfrm>
        <a:graphic>
          <a:graphicData uri="http://schemas.openxmlformats.org/drawingml/2006/table">
            <a:tbl>
              <a:tblPr/>
              <a:tblGrid>
                <a:gridCol w="1419480"/>
                <a:gridCol w="3578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ste l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rificar se a média anual é igual ou superior a 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 se verdade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screver a palavra APROVAD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 se fal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screver a palavra EXAM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A05F-C245-4CB6-9889-751DC8661BA7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395280" y="685800"/>
            <a:ext cx="813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lecione a célula ao lado da média anual de Portuguê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no menu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Inseri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no comand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unção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caixa de diálog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Colar funçã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scolha a função lógica SE e 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caixa de diálogo da função SE digite os valores dos três argumentos que são teste lógico, valor se verdadeiro e valor se falso. Veja na figura como foram digitad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em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55640" y="2852640"/>
          <a:ext cx="6192720" cy="365400"/>
        </p:xfrm>
        <a:graphic>
          <a:graphicData uri="http://schemas.openxmlformats.org/drawingml/2006/table">
            <a:tbl>
              <a:tblPr/>
              <a:tblGrid>
                <a:gridCol w="619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ote: Texto deve ser digitado entre asp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Picture 16" descr="Argumento%20de%20função%20se"/>
          <p:cNvPicPr/>
          <p:nvPr/>
        </p:nvPicPr>
        <p:blipFill>
          <a:blip r:embed="rId1"/>
          <a:stretch/>
        </p:blipFill>
        <p:spPr>
          <a:xfrm>
            <a:off x="2300400" y="3427560"/>
            <a:ext cx="5008320" cy="28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7"/>
          <p:cNvSpPr/>
          <p:nvPr/>
        </p:nvSpPr>
        <p:spPr>
          <a:xfrm>
            <a:off x="3267000" y="6307560"/>
            <a:ext cx="343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igura 20 Caixa de diálogo da função 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30160" y="1882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inserir a função SE faça assi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4-09-26T12:23:38Z</dcterms:created>
  <dc:creator>Uilliam</dc:creator>
  <dc:description/>
  <dc:language>en-US</dc:language>
  <cp:lastModifiedBy>Marcus Ramos</cp:lastModifiedBy>
  <dcterms:modified xsi:type="dcterms:W3CDTF">2009-05-04T14:17:45Z</dcterms:modified>
  <cp:revision>442</cp:revision>
  <dc:subject/>
  <dc:title>WORD XP</dc:title>
</cp:coreProperties>
</file>